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2640" y="685440"/>
            <a:ext cx="45687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EEB5D1-92F2-4625-AB8B-9748B6628E0F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0D3E2-BB8B-422D-8F5F-26C06F158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8322C-2609-4EEE-9600-7B01E09D2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0B1B7-80B6-4045-9FA6-85E161343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200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92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200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92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F6245-B0AF-460C-8504-CA98E4B2E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7C32E-FBF2-461E-B2FE-80F4329D9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0426C-5EED-4311-B5C4-37AC41BC7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0F39B-60DD-4BF5-A113-028FAE515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C1E7C-D3E5-495D-9951-7FDF781DC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79B8B-D204-48C0-B882-30B44A4CB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9720E-23D6-410A-96C1-8E0AA501F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84E3C-0619-4A4A-A38E-E34DB2D20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276C4-5018-496F-96EF-F1D24A7D9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1800" indent="-27180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91840" indent="-2260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28016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5075E3-662F-4CB0-8479-6332F5D68D7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258920" y="836640"/>
            <a:ext cx="66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NEW MODES OF GATHERING SURVEY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195640" y="2781360"/>
            <a:ext cx="50403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ELLULAR PH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24000" y="189000"/>
            <a:ext cx="8496000" cy="6408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uan Díez Nicolás</dc:creator>
  <dc:description/>
  <dc:language>en-US</dc:language>
  <cp:lastModifiedBy>NickM</cp:lastModifiedBy>
  <cp:revision>0</cp:revision>
  <dc:subject/>
  <dc:title>Sin título de diapositiva</dc:title>
</cp:coreProperties>
</file>