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079C53C-D85B-4D25-86EE-7260B57770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0E124EA-6220-4FF7-A838-FC37CC8882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767360-DF64-41CC-99A8-60CFDCA83E7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A7253C-19B9-487E-AC2C-3FC5BC7ACDC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9E9DC0-1C89-40EE-BB23-AD4E9ADCDF7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3866068-E2A7-40CB-845A-B414E59C37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9981579-61F2-41A2-8291-C1FCEF068B7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746CA84-6DC9-4A83-930F-C9A539587AE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7F90A08-3859-439A-BE11-ACE65586EE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7E18DEA-C7E5-4636-93E7-8D4451C34E7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12B751-0EC2-4C07-802C-FE00E2802B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7E61C5-FD34-4065-A2E1-1AF7A5DC9E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14D377-89B5-4AE3-A9E9-E39093179E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1D70357-D11E-45A4-8B00-9249EB21A55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3A403E-4826-411B-AFED-598032ED0E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FDAE7C-CA87-4509-9014-973D8FC6844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03AB618-A841-47B3-8D53-475A73979FC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041B90-0CE7-4B10-8F78-04D9BA9AB4C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947800D-2D61-4E73-997E-ADB82C4503C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E14BEA-8BF4-4BAC-B0AC-FE58F4E682B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36910D-11C6-4BE0-8E66-724FF3AC50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9FDA1F-20E9-4E7B-B25C-E84DAE3235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70F0545-B686-4A70-B592-CBA5D30BC6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8FCFFCF-54C8-4F09-AB0E-262021D2870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2246A2-07DE-4C3D-AE7A-608C7D04A813}"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62A81B-D92F-402C-8346-91354F66E5F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 </a:t>
            </a:r>
            <a:r>
              <a:rPr b="0" lang="en-US" sz="2400" spc="-1" strike="noStrike">
                <a:solidFill>
                  <a:srgbClr val="009999"/>
                </a:solidFill>
                <a:latin typeface="Arial"/>
              </a:rPr>
              <a:t>- </a:t>
            </a:r>
            <a:r>
              <a:rPr b="0" lang="ja-JP" sz="2400" spc="-1" strike="noStrike">
                <a:solidFill>
                  <a:srgbClr val="009999"/>
                </a:solidFill>
                <a:latin typeface="Arial"/>
              </a:rPr>
              <a:t>2004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 - 2004 Namazu Project. All rights reserved.</dc:description>
  <cp:keywords>Microsoft PowerPoint 2002 for Windows</cp:keywords>
  <dc:language>en-US</dc:language>
  <cp:lastModifiedBy>寺西　忠勝</cp:lastModifiedBy>
  <dcterms:modified xsi:type="dcterms:W3CDTF">2004-01-09T08:58:34Z</dcterms:modified>
  <cp:revision>2</cp:revision>
  <dc:subject>Namazu  のテスト(PowerPoint2002)</dc:subject>
  <dc:title>Namazu のテスト</dc:title>
</cp:coreProperties>
</file>