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BF17-A2BD-4127-825B-56BB655AA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D5BA-BD28-4BAA-800E-03459F0C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28378-75B7-422D-ACF8-9BB3D19E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E0B20-91E0-4E4F-9CDE-AF4C2CFA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868997-5101-4402-8249-7EEDE055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BD576-5C77-4615-9DBA-F3EB673F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2AAE8-B28F-4401-943C-FEF2EEFA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4F958-93BD-4543-B349-3C598E3F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980381-7DA0-4090-9776-EBA4AFFC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62284-A336-43C6-8291-6F7335C1E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A0528-A045-4D4C-8D74-89CB49789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FE6F28-AB59-4E58-B76A-75A2DDB41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50DA-48C5-4F05-AA99-434D7749E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E66B82-B8DB-459B-B8DE-8F796033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656082-364C-4FF1-AE4C-8AE5BDD8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B2355F-D4A3-4914-93C3-7F1962A0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30CA51-91CF-42C3-8287-09B73943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1DABC1-63C6-4AC9-AE1A-177AF9D8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B7C81A-A351-4E80-8B1B-EAB61CDA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8FF45C-F715-46E4-98D8-DAD88CF7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E24F7F-0E48-440E-9987-245BFA9C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6052CB-A9EE-4EE6-BBFD-9011E6EF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EFD4CA-0550-439F-8152-4851A8BD2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4F70-CFF0-46B3-93C4-C542B1C09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9C7486-3E19-48D6-9047-ED0C4183F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C16D4-FB74-4430-BE00-D76D51770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CDC53-485A-44AE-9A1C-FB0C3FEA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DB2BD-7967-4807-AC72-DDA50CF5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A586A-6502-4DD1-B1D4-11A0624D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DFD36-27BD-4CD1-B1AF-73EC747B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5BD35-E9DE-4CD7-80B0-3F341718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3EBDF-9A18-4A64-A349-BB318E48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35C10-49DE-4DA1-94DB-8C74E953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9D580-E071-4727-86DC-309A46E4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8F30-52E9-4982-BDE5-E2B49C5A2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A80138-9C92-4A64-89CB-8C677F1C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C2B37-7577-4398-9401-BFC9914EF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B8E99-A49F-443B-8E88-4BC5F255E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1A798D-5835-4205-9DE1-D39C46C6E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EC4902-AD1E-402F-A059-CA55FE55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135B77-54F6-49F8-B1C2-228F19CA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8FFB99-38EE-48F1-9ACC-3B9221AD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80E4BD-2C9F-4A55-99A0-91057175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F17E59-9DFB-45CB-B623-98F421A1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A34A5-7D8A-4248-B359-B4EF21CF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5792-CA8D-4861-A99F-800EFFD1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536783-B3C6-4F5D-9E97-AE3C9E97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EC142-3308-40E9-B2D0-4EAA8F0E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BE3BD-AA77-4F4F-83AB-CFBD6FB7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4EAF67-FD77-43AF-B359-479BCF5DE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237B9A-9F8D-4AE8-9499-A2A6C2D5E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3DA5-AD9A-45B6-B962-688EEECD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EF08-22D7-4131-B2A4-418C6DEB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85A6-CE57-4528-8E97-688387BA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78AF-15B3-44B5-8F60-EB2C5164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7FBC-B103-4284-9D82-EE95B703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0E51-5291-42B3-A72E-04CD0161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5E86-CC25-4FDB-9BFA-01DB158A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1A61-4D6E-4424-AF9C-B14F26B4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563A-AD85-42EC-8C17-6CBFF655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8CF7-3C2D-4A22-872B-0D73949C2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FCF4-9E22-4D0C-9030-4DE1266B9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5776C-169F-4767-A776-80E54E38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8C94E-C30E-4616-9CE3-A96A92F0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A0F82-3B53-49B2-8AF0-A5B51185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23126-97A9-428A-9DB0-892F1E25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1BEE6-CB85-4873-B512-B0F61AB2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A1CB-4B0F-4274-8892-00320770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6B42E-46DC-4581-A72D-905009AA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B83C2-6F2A-4F46-9C24-12342C2F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B5BFB-0173-4AA2-8608-75A701B1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64B8D-2BC9-4922-A35B-4216E477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ADB7F-6F61-484D-8BA3-7BDD9D2D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3C20F-C0EA-4C0B-85BA-B954BB952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25B0A-4DAF-4A16-974D-39F6ABA68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EF0BC-3FCF-4803-A4DC-119D3D74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4D5DB-D85F-42B1-9BFC-AF23930B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0C38F-B39B-4252-9C02-D699DFA3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B22D-62B0-4F1A-B224-C97CDB0C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96DFE-75D3-4FE0-BAE6-5375E664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0F433-BF0E-49C4-99CC-DD50B32B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799B2-BFBE-4677-959F-5291E48B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8E408-0067-4DBB-A9C5-5E0114BE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3F54E-353E-4ADB-AFDC-CB953B18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818F0-15EA-49B0-A9FE-DF0FDEBC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C834D-F4B0-419E-B885-672F5434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2FCD8-2AD6-416D-8523-2666E61F6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CEC94-3FE0-4B2C-BA94-BC5C3298A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E191BC-2EAB-4616-A441-DE2E7E241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9A8F-6C76-4E72-B4FD-327870CA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50BAF2-AD55-4A75-92E5-D02D96B3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591669-663F-4D0C-8C5C-0FC7F40C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795BDB-D4E1-4F12-ACD1-D8955E33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A3B3F7-8B01-4BF3-8262-86CCA1C7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D7C352-7737-4E79-B91C-F3914935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359BAD-A898-41F7-9540-DBAC94FA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ACDC0E-C6A9-430C-9A98-6FE800DC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433F27-CB6D-4B69-994F-EB1E8FDF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11E619-1EA0-4B63-877F-802AA449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D7C9C4-B5B0-4327-94B1-B802ED85C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4B95-6050-45D0-BD48-ACF1FE08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642436-8965-42E0-A546-E222710BF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01534-9C28-4BD3-BDFD-63B7E2CEF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C3A14-91E9-4B40-BEF9-D8155C0B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57D92-8187-4FA0-8EC0-83B82097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E861A-66DE-40CE-A0CA-1BFFD054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17AA8-C427-42F0-BB0A-BE8D7D0D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CDB06-F619-451D-86E1-555707F3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79D5E-6DF0-4773-80BB-86151CB6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A8CD7-4903-4CF6-8977-2EA1B237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161F3-1209-45C1-81C5-B41DF0D0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9D2B-E2D3-4147-811B-F8F71F5E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FB4D6-3A85-46D9-A82C-13C52F10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B2004-5767-4EDE-8AD4-A0115BAF5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C2A94-EC6B-4FF1-B180-313185E6E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76B64-8054-432D-9F30-613099C25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C2E77-F9C5-466D-9903-7E33BF8E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8C8CC-9C38-48A6-B95C-2C4A08DA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C359C-7722-4FA1-B709-4D8A641C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624C6-838A-4CDC-B665-7B741080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19D37-0F03-44E5-A4B7-200591F6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57563-2AF3-4838-BEBD-8A58E0AD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F2BC-6B86-4CFD-AB9A-61BB0C8D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697F9-1AC9-4EBA-BDB4-B4322B32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3EFAF-D465-465A-AC6A-D88B8E0B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6FDE1-265C-4BAB-95A3-D823D888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8F49A-24DE-4F9B-99D2-5DC8C789C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A06E6-448F-426E-B8CA-3A4741917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9662F-46E7-4C4B-BEC7-D36CE3A3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54F34-30DB-4106-A200-779057A0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8F0EF-2C6F-44E9-BF42-61B1DFC7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A8A84-DB85-4E50-8A7A-F2D11B60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DAD5C-B963-4B1B-99C2-AFE93640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4BBB-0702-4E62-BDF1-AFE59E17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741DA-0429-4444-A016-6E90AB9D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609DF-A42B-4D33-89EF-05C7F369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A1BC4-0DB2-4358-B793-E84E7A20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786CD-473E-4BB7-8E2E-D4FBAF3B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030F4-65FE-4547-806B-04512E30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4BCCD-4080-4937-9CD4-04C73CC8C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B8853-BDD8-482F-8A67-B216CE546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41EB8-6103-4447-9182-D9F653E0B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C96F0-E5F8-4885-AA54-F52A5327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96298-7B7E-4561-9912-E0F4530C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44CF-1317-414D-BD78-24E04224EFD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1F19-6F45-4FA6-AF22-A8A8286F8F9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4100-C109-41A4-9C90-852595321D9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E041-4FE6-4758-855E-2C6E2D34F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1C81-FD64-4863-AE5F-469E5D362A7D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BB9B-63C8-400A-9E00-91D82694D87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4D1E-E0A7-4D22-8131-13E9E66DA1DA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F9D9-3CF7-4676-810C-DDF11D3F813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DBDC-BBBE-4128-9215-455A0BE3B4C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A620-F313-422C-AE83-747E22D4B61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2BA0-CC02-42CC-8C3B-4085C5F7B57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0B3C-0A4B-47E7-B4C7-BAB84B8F5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5EF1-ACBB-4D60-9721-318B447763D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5260-5B34-4B65-8CD5-B0AC7F09E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DFEB-5410-4DC5-AB1B-39E3E59A5D8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FAAE-4F29-4856-B5A9-AEFFE294C99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0C3E-9787-49E8-B3E7-F9462F9387D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FDA5-C279-4130-8C72-7613BB5441A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84EE-0D9F-4BE1-8DBB-CF5137E0B71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A513-E03E-495E-AF09-694BA41D95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8688-429B-44A5-86E9-99EB8678957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7451-80D6-460D-ADE0-E4977C65FC9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8F02-4E40-42F6-AB2B-72BDDDAA236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F3D8-A1D9-4514-9400-4B7A0F704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9FE9-67D1-453F-AC74-66AF020EFB0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DCEC7-800F-447F-8B51-D559519F3B91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8C131-37C8-4EF1-8687-F027A33030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1875DCDD-FEAE-4144-8884-1C740E25FF18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D17D5-76E6-4CBA-B665-5A178C8304F0}" type="slidenum">
              <a:t>3</a:t>
            </a:fld>
          </a:p>
        </p:txBody>
      </p:sp>
    </p:spTree>
  </p:cSld>
  <p:transition>
    <p:comb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4CD64D-73EB-4627-B432-01A2D308DE8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B50884E1-7CA7-4ACD-8FC8-EFBB6EB5F095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9A712-EA42-47D3-89AD-BA2314B539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2E797C83-E262-4652-A1A1-4AD4BF414304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7000"/>
                            </p:stCondLst>
                            <p:childTnLst>
                              <p:par>
                                <p:cTn id="3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00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AEC7B-11F8-4AFD-9CFD-B0A7FFEFADC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5D4C9C8D-97E5-43F1-A8DA-E9326F4B069B}" type="datetime1">
              <a:rPr lang="en-US"/>
              <a:t>07/30/26</a:t>
            </a:fld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