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42F9-8CDB-4577-9F27-663A9A013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7B3D-FA00-4FEF-B845-113842D7A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5151-078A-4FBC-B23D-D49A7801D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CF7E-E4EF-4756-A3CC-DE8917F34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54EE-9D12-4410-B653-4AAB09625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5E5A-91AD-47E8-AED7-59A46D56E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5D81-4731-4CBD-899D-07F7016C3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2635-0004-4121-8D99-1C700982A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EB19-BD24-4F71-A9B9-4293C48BC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3595-5208-4D20-A89C-A9AF0F7EE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BDD3-1526-4805-BA20-5FD08463C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F687-EB9D-45AC-8D4D-85E7E66DD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EF3AF-DBAC-475D-A9EF-EE18D433DE2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traier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のサンプル文書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-PowerPoint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457200"/>
            <a:ext cx="8153280" cy="55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CE upon a time there were four little Rabbits, and their names w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tton-tail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Pet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lived with their Mother in a sand-bank, underneath the root of a very big fir-tre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むかし昔、４匹の子ウサギがいました。彼らの名前は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フロ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モ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コットンテイル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そして、ピーターとい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彼らはお母さんと一緒に、とても大きなモミの木の真下にある砂州の中に住んで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平林幹雄</dc:creator>
  <dc:description/>
  <dc:language>en-US</dc:language>
  <cp:lastModifiedBy>大岡越前守忠助</cp:lastModifiedBy>
  <dcterms:modified xsi:type="dcterms:W3CDTF">2004-06-09T11:48:00Z</dcterms:modified>
  <cp:revision>1</cp:revision>
  <dc:subject/>
  <dc:title>Estraierのサンプル文書：MS-PowerPoint編</dc:title>
</cp:coreProperties>
</file>