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2727-E66F-4551-B3FB-B49F91F3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46F8-38BC-4A9E-B2E8-5D32C01F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67AE2-DB6D-47DE-BEC7-D866C77D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38625-7C96-4723-AEC1-D54FD262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5B1A2-9E97-42CD-B916-7A33C64D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5C91B-7AFF-46BE-ACCC-18070BB1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C3A72-E260-420F-84F2-98536B1E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BBF1D-A8BC-4B81-816F-D3C6290F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7083F-E21C-44C3-BC6D-43F626C2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FC531-0EA7-4EDC-A419-7D7896A8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4F834-B0EB-47B3-B061-F73AEE74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6C157F-7D49-4B2C-AA64-1E9DD968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7B98-4DF2-403D-9D44-3B0E7FFE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BF3F21-C0D7-4F9D-88DA-C0DB03B6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064BFC-8581-4097-AE22-A7BD4466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E33D72-847F-4105-A263-14AE428E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804BE7-FC16-479A-B2C4-F61FB7B5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DEB39E-DB27-48F8-BC5C-7EE0D3FC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49E8A1-29DE-44D4-A9F2-D1B27C0A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210F5A-133B-49CB-B1E8-416BE7C3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3BCCEE-E756-478D-BBA8-B6D43702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E481CD-FCF1-4D19-BDB1-10049EB8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D94361-C9FE-44A2-8981-806CE455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513-3449-4C37-9EDD-136CF609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BCBCF6-904E-4A95-80B0-BE2CDDB0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AE7AF-B07F-4996-B7EB-3E27DB32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5A538-3C56-471B-928D-ABC9816D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4971F-96D0-4C7B-8963-5BD9430A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548B2-78CA-4D48-9AB5-780BD487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34382-BC4A-4FE9-ABF6-9BF7A7C3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ACCA7-21AF-4399-A9FE-C41A85E8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E12B9-7762-4258-8477-03561E24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8CAA9-FE01-476B-B4E6-015B2345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74E1B-8D39-4A6C-B36A-13E5083C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431A-1062-492F-A77E-22255F3D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AE3D1-5857-4AC0-BDFE-8903576C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48FCA-2A61-4A1B-8F66-523C12A6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0CE88-0E08-4450-BC93-70D75B8F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9BBA7-97F1-49DE-8FE7-162BDE05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BA7B4-524F-4373-AE48-FC2F8059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A48B6-4893-4B32-915B-8C4BC4F9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72445-ED1E-4321-99A4-93F922B7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1FD20-99F5-43DA-BBF2-F278C6B7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489BD-02F1-4DAA-8B54-934B64C0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B08C2-36E9-4D1B-AC06-0D52FCE7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429D-4A6E-4363-855B-E52C5020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3D0E5-794E-4277-8ECD-F88238A2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CA89F-CDA7-44AD-BA90-2BA0379A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F0A3A-2453-41C0-8673-952AF625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E63C0-91A8-4314-B14A-07A859C2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861CB-4D6F-4D6B-9AAD-E17ED7C3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47F5-4736-4BDA-9FF6-6FB5CB88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AEE6-7B53-4FF9-9B49-D3BB508D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276B-4865-44CC-A65C-2A9CFE8E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53D7-7E74-43DA-8457-92EEA9AD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17FC-B16D-4A02-BD1B-AD6FDB77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32E9-D6A3-4F06-A65D-6278BDA2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BA4E-9913-43AD-92B9-43DDAD63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41C3-DF5D-4F54-942C-378027A6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6FA4-533A-45ED-9A26-42EDB766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B529-95C4-40BE-8540-8390A23B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0C0A-6AF8-4DF0-A160-60410339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116E2-ADF0-4940-BD62-B146E5F9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BB8AF-BA98-44C1-93E4-2967CA7A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B380C-EA08-41A1-8113-4635392C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85F4F-B30E-410B-BB96-3A6A8671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C2B95-A355-4248-8642-DFAF9A07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6C4-4C59-4F1D-8EA7-456855D7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E0E64-B883-4B56-9B31-0D29060D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53D4F-BCDB-4F03-AB36-38A9638B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B4509-786C-4F42-9DF9-B2991E21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C1694-3540-437B-B559-9593ABF3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54516-D72B-4D90-98BC-C82877C9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09DA4-8757-42C9-B19C-E697FEC80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EB07D-D2D3-4BA0-AB8C-C688F40D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0436C-01F5-4DE7-A554-61D189A1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3D792-6D01-4C24-A215-69986404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135F4-D49C-4644-963E-7E3AC656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7418-59B2-443C-9727-E14152B6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8BCFA-B790-4B9D-9497-7C990DE2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A8B50-D9AD-4EB6-8DA6-4F90357D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71F92-6419-469B-9395-6D3E132D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74111-3FF9-4086-9361-345CBEC7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5ECCE-D2A4-4212-A2AE-3BF3A426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56F08-8B9F-468D-AB82-0D8166FF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AAAC0-B7B8-4E01-A7F0-01555B17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32748-9D13-40B6-95B9-87A4A4F9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543A4-04C3-4DFE-80A3-E75D71B5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F7EDB6-EEBA-44FC-9596-5FC163CA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0EF-2F3C-431A-83F9-E92CCB11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29E1CA-0A70-4D54-8EB6-49BBB344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83F576-C3A3-4A4A-A0EC-DEA0D4A1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29815C-79B0-4567-AD14-D35EFFA7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35E3E-73B4-4ED1-87D2-0486EAE8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B79AB6-B60F-4D41-B67D-2B1B087F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DF19FD-0C45-4C4A-B412-83F609FC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4C3C1E-3E3D-4BB7-87D5-C2E85223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64203E-A105-444A-AF8A-72D8EAB7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D5196B-AE3D-4940-9B95-5DA9726F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467865-4209-4802-8CCC-3A1EA341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B92-CDC9-4DE0-BE03-F09A0868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89299B-6371-47AD-B47E-2D562934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A2CAD-0227-433B-B332-C8DC8EF0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DCAAE-DEAE-42ED-9408-EF01FE44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D6232-21B6-49E0-B1EF-5BD96121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4429A-399C-4228-8BBD-DBA01BA3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9E941-FE1C-48A3-9FCA-3AAB944F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BE6E7-B087-42EE-8A72-2E966DCA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A50A9-DAEC-4B58-861D-09A39AAC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C9DA1-0862-429A-93C8-59E95E4D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EAB53-2753-498E-A4DC-DAB5EF49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B406-84C8-4237-9945-0857FB7F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7EEB4-9DD6-42EB-8EB7-51C1FC2A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9E06F-80E2-4D2C-82BD-5C7FC308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295CA-DAFE-4E1F-AC43-A8488D6E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6E4D3-AE99-4EFC-ACAA-AA169585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9C81C-4726-4A87-AC01-70AF7259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EA3B2-8F17-4EC9-8180-E75227C1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A56A3-3CE3-4B2E-8E51-CACC7C84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A9CFB-4830-46BC-A57F-9DF9E97B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1B095-EA69-4A7D-81F4-B74F09C4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329E5-DF5A-4A7B-81D8-DE4A0DD5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EE80-C677-4890-9681-A05C448B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E2519-3095-44CE-B8CC-6427CC1C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FF591-6B50-4BF9-AEA1-B1B791D5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94E20-3228-412A-97E4-5867756C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5CC1A-CFDB-4870-847D-4CB1DBD8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DE241-879D-48EE-BD5F-B1D10066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3859E-6B83-48AA-A1AD-920A025A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DB500-986B-4B73-BA0C-CBB1DB62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B84A6-1331-4F9D-B9B9-24CE2DA5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EA8A7-566B-439A-B38A-A44BC876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5389E-2B36-4F86-8F10-07D563D4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625-BF7B-4E93-BA03-718F80A0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9D967-2E0D-4141-BD1F-BCDF8C2A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20F13-63A5-4A2B-897C-00BC2AED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3049D-11CF-483E-8408-E02AD911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A41B3-F746-4316-A1F1-3C4FB511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F04DC-FED7-44B9-87A4-66A40CE1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AA873-12AB-4BB9-9D2E-899A8E07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90F16-8C32-415B-9211-E0C66BB7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973ED-6AD2-436E-951E-9E68219D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47FB8-B932-4012-8079-E436CE36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47F21-8BD0-4F63-949D-322ECC81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6B80-39E1-4E6D-97B2-71F4617B8B1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46D7-ADEE-4731-A485-0252D4E566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9013-3D0C-43F5-A93E-60847531C07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C92B-FBC9-475E-BD0E-1691DCC96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2C00-FC5C-42B5-94E3-038629EC9D9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E35F-87EE-4D7F-9AB1-E7825A66B79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FB65-5413-44D4-B1D0-4085283F631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EED5-2020-40E4-ABA5-7971560F313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C845-5874-4CF9-A0A6-F112E76D21F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D6E7-9ADC-414B-9587-2AD1302EAA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211B-A52F-44F0-A009-C1861701355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F732-AB1D-4C39-801E-4F5418BEF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183A-CD98-4CB1-AF1D-42BE54DDC1E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55B3-C269-4465-AD95-4A1D57680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F8DC-19F0-45AF-9668-BBEFAB34716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59CB-08B8-4D69-982E-9C2B208AEFE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1026-2962-4F32-A695-5AD94DF847E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308C-46FD-46B3-B5A9-0C99FBAEA0D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1346-7D8A-486D-9F0F-DF93842D411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C772-9664-43B4-B83B-3071DFBAC9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F8FD-307D-4E8C-9804-82B6454ADDD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06E3-08C5-417E-AB08-D3D8439A96F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17FD-0DAD-4E97-8069-D1CE6853A0A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EFEA-AE46-48BD-B4A2-92873461F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0F3-9EEE-41BC-8820-EE14CD58FF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AED32-EC9B-4A40-B600-98B22AF43213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D5B89-0770-4A2D-B960-6F2FB4D47B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AF7C2E25-D140-4E9D-A734-BA2FAE1406B6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17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64339-04A7-40F9-80EA-F17871300869}" type="slidenum">
              <a:t>3</a:t>
            </a:fld>
          </a:p>
        </p:txBody>
      </p:sp>
    </p:spTree>
  </p:cSld>
  <p:transition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F89F06-5EAB-4831-A31A-1EFD2AF7E98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076D7A7-00F9-4BC6-A084-06E95B074A43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434B8-5D84-450E-9B9B-9C1B0C750B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BA65D0E9-02A6-4081-8D20-349FFC30943E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F8C4E-672D-4A11-810A-4DCC79C4DB6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87A79A91-5CDC-4F00-87BE-56E93018D568}" type="datetime1">
              <a:rPr lang="en-US"/>
              <a:t>07/29/26</a:t>
            </a:fld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