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14CFF-D3AA-4555-B718-268DEC438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16BE0-A365-4DD9-8CC1-648666DBB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AD441-39DE-4FC6-8F5F-E28F56AF8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BCFD1-BF18-4CCC-97D5-6EC296539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B13EC-3EF2-4C1C-8E7C-DBC04DC87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607AA-6E39-4754-A2A8-18A24A9EF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78D2F-93BC-43FA-87F9-F8A1092E0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F925A-2761-4D57-A708-02812EF37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CDCC5-91A4-4678-AAB1-E7AF6D01C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2E60E-3855-43E7-9F90-0F16551EC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302F4-C0A3-4D85-A407-1A75F1B10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43349-9163-4174-B19A-2D717ED04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6F833-1014-4FB7-99C4-8F2FE071A7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27120" y="1400040"/>
          <a:ext cx="6087960" cy="4057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7120" y="1400040"/>
                    <a:ext cx="608796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4:23Z</dcterms:created>
  <dc:creator>Oliver Craemer</dc:creator>
  <dc:description/>
  <dc:language>en-US</dc:language>
  <cp:lastModifiedBy>Oliver Craemer</cp:lastModifiedBy>
  <dcterms:modified xsi:type="dcterms:W3CDTF">2005-01-06T09:24:29Z</dcterms:modified>
  <cp:revision>1</cp:revision>
  <dc:subject/>
  <dc:title>Slide 1</dc:title>
</cp:coreProperties>
</file>