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DC6B-60B0-411C-9409-468186F42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F1FC1-4C64-44BC-B52D-80558FD5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579-9B75-4DE3-AF35-036E674BC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FB9C-BBED-4D6B-B8F0-4B89FE27A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CC139-F0FC-4EBB-B141-559A067C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6100F-4FF2-4567-B545-115A3167C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B1708-D017-4BAA-9B44-75972EC0E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CD0BE-4D13-4125-8367-7B102A71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4DA02-4B70-4B2B-B3CD-0D420E7FC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9E4A6-C0C5-4F54-BA06-E10806DBA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8EB70-13B3-4D92-B78D-6BBC8C305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8713-0D5C-4381-9612-F51B1176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2A85E-2A16-403A-839A-E044DAE3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96CA3-46EE-4378-8A24-2B5D9709A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ACEF-6DC7-496E-8609-AD8C710BE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E09E3-EB83-4E66-BA69-6ABAE6028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06216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896080" y="175212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22824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06216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896080" y="4020840"/>
            <a:ext cx="26985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10224-6CBD-49A9-B10B-F3AF0E21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5947-7AF4-4C92-9EEC-2E00891E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1FC9-D4D6-4916-A255-A1366ED18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794A-7A2F-4A2D-82F4-21B21C026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228240" y="380520"/>
            <a:ext cx="8381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79DFD-9142-4AAA-A582-E72A28D0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43E3-BFE5-4C23-AE48-1D9BFBA7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23400" y="402084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6D5F-178F-406B-801D-A5CA68A30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23400" y="1752120"/>
            <a:ext cx="40903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228240" y="4020840"/>
            <a:ext cx="83818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B779-E17F-40BF-AEA1-EFB990589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1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43040" indent="-285840">
              <a:spcBef>
                <a:spcPts val="799"/>
              </a:spcBef>
              <a:buClr>
                <a:srgbClr val="996600"/>
              </a:buClr>
              <a:buSzPct val="75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43000" indent="-228600">
              <a:spcBef>
                <a:spcPts val="799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600200" indent="-228600">
              <a:spcBef>
                <a:spcPts val="7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A3CF-2A99-4526-AAEC-3FD1C1BA240D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sp>
          <p:nvSpPr>
            <p:cNvPr id="53" name=""/>
            <p:cNvSpPr/>
            <p:nvPr/>
          </p:nvSpPr>
          <p:spPr>
            <a:xfrm>
              <a:off x="6248520" y="6095880"/>
              <a:ext cx="2743200" cy="7621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maneki" descr=""/>
            <p:cNvPicPr/>
            <p:nvPr/>
          </p:nvPicPr>
          <p:blipFill>
            <a:blip r:embed="rId2"/>
            <a:stretch/>
          </p:blipFill>
          <p:spPr>
            <a:xfrm>
              <a:off x="7518240" y="5029200"/>
              <a:ext cx="110016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763120" y="0"/>
              <a:ext cx="7596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6" name=""/>
            <p:cNvGrpSpPr/>
            <p:nvPr/>
          </p:nvGrpSpPr>
          <p:grpSpPr>
            <a:xfrm>
              <a:off x="8839080" y="0"/>
              <a:ext cx="304920" cy="6870600"/>
              <a:chOff x="8839080" y="0"/>
              <a:chExt cx="304920" cy="6870600"/>
            </a:xfrm>
          </p:grpSpPr>
          <p:sp>
            <p:nvSpPr>
              <p:cNvPr id="57" name=""/>
              <p:cNvSpPr/>
              <p:nvPr/>
            </p:nvSpPr>
            <p:spPr>
              <a:xfrm>
                <a:off x="8839080" y="0"/>
                <a:ext cx="304920" cy="6858000"/>
              </a:xfrm>
              <a:prstGeom prst="rect">
                <a:avLst/>
              </a:prstGeom>
              <a:solidFill>
                <a:srgbClr val="c1272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839080" y="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591212"/>
                  </a:gs>
                  <a:gs pos="100000">
                    <a:srgbClr val="c1272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080" y="6413400"/>
                <a:ext cx="304920" cy="457200"/>
              </a:xfrm>
              <a:prstGeom prst="rect">
                <a:avLst/>
              </a:prstGeom>
              <a:gradFill rotWithShape="0">
                <a:gsLst>
                  <a:gs pos="0">
                    <a:srgbClr val="c12727"/>
                  </a:gs>
                  <a:gs pos="100000">
                    <a:srgbClr val="59121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0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gradFill rotWithShape="0">
              <a:gsLst>
                <a:gs pos="0">
                  <a:srgbClr val="fbe4ae"/>
                </a:gs>
                <a:gs pos="100000">
                  <a:srgbClr val="fae3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6781680"/>
              <a:ext cx="8763120" cy="7632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dt" idx="4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Impact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sldNum" idx="6"/>
          </p:nvPr>
        </p:nvSpPr>
        <p:spPr>
          <a:xfrm>
            <a:off x="5638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Impac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7F5F8-05B9-435B-B6D0-0FD837E2031D}" type="slidenum">
              <a:rPr b="0" lang="ja-JP" sz="1400" spc="-1" strike="noStrike">
                <a:solidFill>
                  <a:srgbClr val="000000"/>
                </a:solidFill>
                <a:latin typeface="Impac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Impact"/>
            </a:endParaRPr>
          </a:p>
          <a:p>
            <a:pPr lvl="2" marL="914400" algn="ctr">
              <a:spcBef>
                <a:spcPts val="601"/>
              </a:spcBef>
              <a:buClr>
                <a:srgbClr val="c12727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  <a:p>
            <a:pPr lvl="3" marL="1371600" algn="ctr">
              <a:spcBef>
                <a:spcPts val="499"/>
              </a:spcBef>
              <a:buClr>
                <a:srgbClr val="996600"/>
              </a:buClr>
              <a:buSzPct val="85000"/>
              <a:buFont typeface="Impact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Impac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2285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Impact"/>
              </a:rPr>
              <a:t>Microsoft PowerPoint 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テスト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2193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これは </a:t>
            </a: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MS PowerPoint 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ファイルです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1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2</a:t>
            </a:r>
            <a:r>
              <a:rPr b="0" lang="ja-JP" sz="4400" spc="-1" strike="noStrike">
                <a:solidFill>
                  <a:srgbClr val="996600"/>
                </a:solidFill>
                <a:latin typeface="Impact"/>
              </a:rPr>
              <a:t>ページ目タイトル</a:t>
            </a:r>
            <a:endParaRPr b="0" lang="en-US" sz="4400" spc="-1" strike="noStrike">
              <a:solidFill>
                <a:srgbClr val="996600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240" y="17521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8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Impact"/>
              </a:rPr>
              <a:t>ページ目本文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5T10:41:34Z</dcterms:created>
  <dc:creator>著者</dc:creator>
  <dc:description/>
  <dc:language>en-US</dc:language>
  <cp:lastModifiedBy>NaCl</cp:lastModifiedBy>
  <dcterms:modified xsi:type="dcterms:W3CDTF">2005-07-08T02:25:04Z</dcterms:modified>
  <cp:revision>3</cp:revision>
  <dc:subject/>
  <dc:title>タイトル</dc:title>
</cp:coreProperties>
</file>