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BE7B09-801C-48C1-B187-658542593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D58294-5200-4CF6-B990-DE58538A7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49CD8-6DDC-469D-88C5-875973F97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0292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6816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3768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0292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6816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C3BC4A-ED25-44D9-8D0E-34CF8A18E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355680" y="263520"/>
            <a:ext cx="844704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A463AB-5898-483B-BFC4-6F8A433AE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0292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6816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3768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0292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6816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2AEF39-99A0-420D-AEC7-0854AECB0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8FA0BD-EBCE-4455-B2C3-494E69B00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F8115C-D263-4CC4-9AFC-DAD1CC325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55680" y="263520"/>
            <a:ext cx="844704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3096E3-09CB-42B8-BD16-9EB670F8B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7F1C6D-D195-469A-B91F-170F6CDEF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705165-853E-4C48-B97C-7F804C14F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DEE93B-5205-4F53-886D-4AD3462AF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012000"/>
            <a:ext cx="9144000" cy="0"/>
          </a:xfrm>
          <a:prstGeom prst="line">
            <a:avLst/>
          </a:prstGeom>
          <a:ln w="57240">
            <a:solidFill>
              <a:srgbClr val="44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13760" y="6264360"/>
            <a:ext cx="539640" cy="444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2390400" y="6237360"/>
            <a:ext cx="11905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3673440" y="6237360"/>
            <a:ext cx="19051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Page </a:t>
            </a:r>
            <a:fld id="{260ADF97-5AE7-47FA-96A2-CE8DCC142FF9}" type="slidenum">
              <a:rPr b="0" lang="en-US" sz="1000" spc="-1" strike="noStrike">
                <a:solidFill>
                  <a:srgbClr val="36363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225520" y="6199200"/>
            <a:ext cx="2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537000" y="6199200"/>
            <a:ext cx="19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ftr" idx="3"/>
          </p:nvPr>
        </p:nvSpPr>
        <p:spPr>
          <a:xfrm>
            <a:off x="323640" y="6237360"/>
            <a:ext cx="19270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rcRect l="13223" t="9376" r="18457" b="9336"/>
          <a:stretch/>
        </p:blipFill>
        <p:spPr>
          <a:xfrm>
            <a:off x="812880" y="1346040"/>
            <a:ext cx="3819600" cy="3872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991200" y="0"/>
            <a:ext cx="2148120" cy="6858000"/>
          </a:xfrm>
          <a:prstGeom prst="rect">
            <a:avLst/>
          </a:prstGeom>
          <a:solidFill>
            <a:srgbClr val="44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7486560" y="5400720"/>
            <a:ext cx="1214640" cy="9842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334800" y="423720"/>
            <a:ext cx="3962520" cy="2206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647800" y="2066760"/>
            <a:ext cx="40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3636"/>
                </a:solidFill>
                <a:latin typeface="Arial"/>
              </a:rPr>
              <a:t>Silicon Graphics, Inc.</a:t>
            </a: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97000" y="2695320"/>
            <a:ext cx="551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825800" y="569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39480" y="6092640"/>
            <a:ext cx="192708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63636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  <a:p>
            <a:pPr lvl="1" marL="40176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249"/>
              </a:spcBef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249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249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oss.sgi.com/projects/xfs/users.html" TargetMode="Externa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oss.sgi.com/cgi-bin/cvsweb.cgi/linux-2.6-xfs/" TargetMode="External"/><Relationship Id="rId2" Type="http://schemas.openxmlformats.org/officeDocument/2006/relationships/hyperlink" Target="http://oss.sgi.com/cgi-bin/cvsweb.cgi/linux-2.4-xfs/" TargetMode="External"/><Relationship Id="rId3" Type="http://schemas.openxmlformats.org/officeDocument/2006/relationships/hyperlink" Target="ftp://oss.sgi.com/projects/xfs/download" TargetMode="External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oss.sgi.com/cgi-bin/cvsweb.cgi/xfs-cmds/" TargetMode="Externa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360" y="2695320"/>
            <a:ext cx="6024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XFS Overview &amp; Internals</a:t>
            </a:r>
            <a:br>
              <a:rPr sz="3200"/>
            </a:b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01 - Backgroun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150560" y="4743000"/>
            <a:ext cx="55753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XFS Slides 01 - Backgrou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Who is using XF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oss.sgi.com/projects/xfs/user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List is out of date but it gives an indication of the spread of us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XFS is included in a number of dis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Support agreement with Novell for SLES distrib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1 - Backgrou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61DEEF-F6E2-4ADD-91C9-7A7AF0D5C4D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XFS Distributions – linux/fs/xf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op of tree (tot) XFS on oss.sgi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Changes appear here shortly after they are checked in internal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CVS tree on oss.sgi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oss.sgi.com/cgi-bin/cvsweb.cgi/linux-2.6-xfs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oss.sgi.com/cgi-bin/cvsweb.cgi/linux-2.4-xfs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ftp://oss.sgi.com/projects/xfs/downlo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Changes routinely pushed to 2.6 mainline kernel upd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it://oss.sgi.com:8090/xfs/xfs-2.6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Maintenance only for 2.4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SuSE major releases and service pa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As close to top of tree as possible at the time of the code dr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Differences between tot, SuSE and mainline kernels highlighted in course no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1 - Backgrou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2E08E7-3E5B-4D4B-B5D7-4DC80A1B33C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XFS Distributions – xfs-cmd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 large amount of common code between kernel and user-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This is how xfs_repair understands the on-disk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User-space commands in a different code 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oss.sgi.com/cgi-bin/cvsweb.cgi/xfs-cmds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This includes test framework under xfste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Packaged 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xfspro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xfsprogs-d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xfsdum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1 - Backgrou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B2A72-59F5-4DB4-AF47-D4D7D0F4152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XFS Distributions - dmapi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DMAPI has not been accepted into mai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Unlikely to be accepted without a complete rewr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XFS tot distribution on oss.sgi.com includes DMA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Changes we make to DMAPI will immediately appear in the CVS t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1 - Backgrou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B925C3-E4D0-41E2-834B-032DD2E3DE6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IRIX vs Linux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ux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es not support V1 directo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lesystem block size &lt;= PAGE_SIZE on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es not support case insensitive directo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es not support 64 bit inode numbers on 32 bit platfor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ill need XFS changes once generic changes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Does not support filestreams alloc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Development in progress (Oct 0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IX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es not support &gt;512 byte sector siz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D RAID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es not support write barri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es not support “noikeep” functiona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1 - Backgrou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B76B7B-6718-43D8-8281-93C060A707A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Ongoing Development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XFS Architecture T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6320" indent="-30456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Submits and reviews designs for adding new features, or enhancing existing features, targeting one or more o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81160" indent="-26676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Interopera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81160" indent="-26676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81160" indent="-26676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Scala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81160" indent="-26676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Relia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8116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XFS Triage Ro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6320" indent="-30456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Engineer rostered for one week to triage incoming bug reports fr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81160" indent="-26676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SG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81160" indent="-26676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Nov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81160" indent="-26676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Commun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8116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Remaining time devoted to developing features and fixing bu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1 - Backgrou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4A964C-516B-40EB-9D18-4BDC57AD29F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4813200" cy="3846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1 - Background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73FC36-2774-49CD-A542-993A3995D714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Topic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Course Objec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 Brief History of X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Using X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Creating XFS File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Mounting XFS File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XFS Architecture &amp; Intern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File and Directory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On-disk Forma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Supporting X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Repairing XFS File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XFS Tri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Related Produ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Backup and Rest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DMAP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Volume Manag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1 - Backgrou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B243B8-EE09-4853-9488-A22666B3C15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 u="sng">
                <a:solidFill>
                  <a:srgbClr val="440099"/>
                </a:solidFill>
                <a:uFillTx/>
                <a:latin typeface="Arial"/>
              </a:rPr>
              <a:t>Course Objective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By the end of this course you will be able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Create and mount XFS file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Understand how X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Creates and manages meta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Allocates extents to files and manages free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Provides extended attribu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Tracks filesystem quot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Backup and restore an XFS file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Recover and repair XFS file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Interpret on-disk and in-core XFS struc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1 - Backgrou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9F3FB9-71AD-4682-BB68-857CB73747B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Day 1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38040" y="1461600"/>
            <a:ext cx="416088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The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Background and His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XFS Bui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XFS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Creating File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Mounting File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Quot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Extended Attribu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Alloca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200" y="1461600"/>
            <a:ext cx="416088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Practi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XFS Bui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Creating and Mounting XF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Quot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Extended Attribu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Alloca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1 - Background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954275-CAAA-4E8E-BD8A-E3B298D37635}" type="slidenum">
              <a:t>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Day 2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he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XFS Architecture and Intern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Pract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XFS On Disk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1 - Backgrou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DB4D46-B85A-46D6-B66D-429F1B357C5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Day 3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heory &amp; Pract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Repairing XFS File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XFS Tri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1 - Backgrou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1FE7F3-D1EE-486F-A6BC-9E3201D7141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Day 4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he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Dump and Rest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DMAP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XFS and Volume Manag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Pract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Dump and Rest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DMAP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1 - Backgrou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D7E943-DCC3-420C-A435-FAE30193313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 u="sng">
                <a:solidFill>
                  <a:srgbClr val="440099"/>
                </a:solidFill>
                <a:uFillTx/>
                <a:latin typeface="Arial"/>
              </a:rPr>
              <a:t>A Brief History of XF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Original design was circulated within SGI in October 1993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FS: the extension of E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x" for to-be-determined (but the name stuck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rge filesystems: one terabyte, 2^^40, on 32 bit systems; unlimited on 64 bit system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rge files: one terabyte, 2^^40, on 32 bit systems; 2^^63 on 64 bit system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rge number of inod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rge directori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rge I/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allel access to inod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lanced tree (btree) algorithms for searching large lis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ynchronous metadata transaction logging for quick recov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ayed allocation to improve data contiguit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L's --Access Control Lists (see chacl(1), acl(4), acl_get_file(3c), acl_set_file(3c)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First released in IRIX 5.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1 - Backgrou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C897D-A5AB-414D-962E-48DEE7CF3DC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XFS on Linux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Port to Linux began in 1999 against 2.3.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ccepted into mai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2.5 kernel (200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2.4 kernel (200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SLES9 and beyo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ll XFS engineering is now based in SGI’s Melbourne, Australia off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Coordinate changes to Novell via John Hesterberg’s group in Eag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 number of contributors in the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Many (but not all) are ex-SGI employe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1 - Backgrou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4DF31C-50E3-411E-AE36-FB20ABB5B2C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7T10:54:15Z</dcterms:created>
  <dc:creator>David Chatterton</dc:creator>
  <dc:description/>
  <dc:language>en-US</dc:language>
  <cp:lastModifiedBy>chatz</cp:lastModifiedBy>
  <dcterms:modified xsi:type="dcterms:W3CDTF">2006-10-30T19:33:32Z</dcterms:modified>
  <cp:revision>337</cp:revision>
  <dc:subject/>
  <dc:title>Possible CXFS Administration and Monitoring Interfaces</dc:title>
</cp:coreProperties>
</file>