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EA37-9FD0-4631-BDB1-454FE08E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FDAC-87D4-47C3-990B-310F0783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AF0D-11D9-4313-88C6-D7A54090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90B75-DCCA-4906-B491-BFE4C916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F671-2E42-4551-BE4E-E43487F0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750B6-E8F3-4186-B7EB-92CF8062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2A780-5C34-4F15-A0A7-C9104474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5102-45EB-4179-903C-27601627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3DB47-69B5-4409-8199-143ACC0F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2C6B-F8FF-42B8-9C2E-F15DA067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4D18-B21E-440D-BBB1-A666226E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970C-2027-4289-B7E3-AA99C2EE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3D7AE126-1447-419F-ACDC-C6B732E92D4F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2 -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has three inod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ndisk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sed for storing the metadata for all files, directories and other file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y default 256 bytes but can be up to 2K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nux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Linux and XFS inodes have different lifecycles, which can caus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A5FD0-4676-4B4D-9001-E16531986F3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irectory and File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9440" y="1359000"/>
            <a:ext cx="8383680" cy="41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2EC46-6FC7-4EAE-8CDC-FE9366C69B5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Journal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11CC9-6977-45A5-ABD9-AB4E398043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4C8E0-72C3-4480-8ED6-7118D18F1EC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XFS Filesystem Stru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gives an overview of the structure of an XFS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re detailed examination of the filesystem structure is covered later in the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 xfs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FF6F-1642-42FF-B621-5018A0E603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Grou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XFS filesystem is divided evenly into allocatio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allocation group can be from 16MB to 1TB i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ach allocation group incl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 block information about the entire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ree space management (within the allocation 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allocation and tracking (with the allocation 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 clusters within an allocation group are created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kfs.xfs does not pre-create inodes throughout the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 xfs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0F48-A836-46CB-883E-38B32609E0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Filesystem Stru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22160" y="963720"/>
            <a:ext cx="7697880" cy="49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45F4-B0C8-47DF-B40A-6692F8C026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60960" y="0"/>
            <a:ext cx="4883040" cy="600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AD779-765D-488C-ADAF-347C21B962F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Limi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2 bit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 Size = 1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system Size =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4 bit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 Size = 9 Million TB = 9 E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system Size = 18 Million TB = 18 E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F0DC6-88D3-4A1A-BA2D-1176058AA8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system Block Size (FSB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ystem blocks (FSBs) are the unit of space for a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system blocks are comprised of one or more device-level sec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page management implementation in Linux limits the FSB size to the pa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4KB on ia32 and x86_64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6KB on ia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BD on powe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rformance can improve with different block sizes depending on the size of I/O requests and the size of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arger blocks will also use more disk space for small (&lt;1FSB)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04E7-0940-4712-9449-D0E989B759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xt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extent is a set of one or more contiguous FSBs that define a region in the filesystem for file data or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single extent can be up to 8GB in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file’s inode lists the extents associated with tha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or very large files, the file’s inode may have thousands of extents, or one very large extent. Usually something in betw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tents are also used for file and directory metadata when the information exceeds the space reserved for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33DD-25C2-494B-9AFC-5E57E3BCED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Unwritten Ext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DD69-B606-41E3-8E3D-CA7393C4B4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4:39Z</dcterms:modified>
  <cp:revision>337</cp:revision>
  <dc:subject/>
  <dc:title>Possible CXFS Administration and Monitoring Interfaces</dc:title>
</cp:coreProperties>
</file>