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0769-C14C-4B86-9770-1BCF3B26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A181-D130-4E27-8049-DEBD5109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A3CE-F334-4A25-935F-0CFBD271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88F5-760C-486D-8056-BC1CA40A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686E-A396-4F84-98F6-E68157DF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3142-6BF6-41A8-A343-1E33F33A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09C1-995E-464A-B553-5D2297A2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FCB0-7B6B-4AD9-8EB5-66E62531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57508-3A6B-49FC-87CA-867FB1A9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D215-073A-4D04-B40B-1CAC88E8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0E89-CAB6-4624-9A53-9AEA0B4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DD18-32C2-496B-B4EE-AAE1FEA2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5619-DB5C-44A4-B996-04E545E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D02BA44F-A785-435B-921C-7F2C202BC6F9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vs@oss.sgi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3 - Bui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tutorial describes how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tain the latest XFS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build and install the commands and kernel compon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ollowing prerequisite RPMs should be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api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headers and installed can be built from source, but these RPMs will normally su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2CF7-2C86-4602-9BB9-A7003ED985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40099"/>
                </a:solidFill>
                <a:latin typeface="Arial"/>
              </a:rPr>
              <a:t>XFS Source C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st XFS is available via CVS from oss.sgi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export CVSROOT=':pserver: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cvs@oss.sgi.co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/cv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gging in to :pserver:cvs@oss.sgi.com:2401/c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password: &lt;password is “cvs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checkout: Updating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.gitign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OP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RE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84FF-E50E-4D61-90D5-2375DF9782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XFS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PM packages will be placed in RPMS/&lt;ar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RPMS/x86_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progs-2.8.15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dump-2.2.43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RPM packages will be placed in SRP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B051-BEEF-478A-938B-67F22063FD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Kernel Configuration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052640"/>
            <a:ext cx="84740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FS can be built as a module or statically linked into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quota disk lim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data management API (requires generic kernel DMAPI sup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lternate access control models (ie SELinux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POSIX_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ccess Control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REAL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realtime allocator that provides deterministic data r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DE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debugging features in the build (ie ASSERTs, sanity checking code, etc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T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support for activity tracing of inodes, buffers, locks, the log, I/O path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6844-525D-4B69-ADD0-3CE06DEAF4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 Kernel Compon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e and build kernel and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x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bz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make modules_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XFS wasn't built as a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arch/&lt;arch&gt;/boot/bzImage /boot/vmlinu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System.map /boot/System.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EF8E-9CB5-4CFB-9146-585174FEC4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Load XFS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 the XF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s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ule                  Size  Us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dmapi              32852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quota              85120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                   848864  2 xfs_dmapi,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now mount XFS filesystem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0A75-0081-41B7-9282-11EBCD7D9A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5740-A657-4264-8838-DC14A77BEC2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5:27Z</dcterms:modified>
  <cp:revision>334</cp:revision>
  <dc:subject/>
  <dc:title>Possible CXFS Administration and Monitoring Interfaces</dc:title>
</cp:coreProperties>
</file>