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2B74-9B87-4F56-89B6-F6B6EA1A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7EFC-3232-4F97-93A9-8B582B5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5FAF-9F7A-4044-8225-E0775A6E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4127-BF1B-4CC8-ABA1-25DE39DC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CD5E-D55C-4E84-8EAB-D729DB3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2310-821F-402D-935C-49B4D99D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BB5C-D908-497F-A823-31A8E7F2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2641-A0F3-43D8-B702-DE44B51F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7737-D373-4BC3-B965-2D1024F5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4E31-C537-4943-81EC-137CE376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7379-8FD3-4107-9983-3436211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127D-6AE4-4F30-86F0-474C2FD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067D641-D54B-4229-AAFB-8A83B9F7FD98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4 - mk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Filesystem Im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 allows you to create a filesystem as a regula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can be used to create a filesystem on a loop-ba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file=1,name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=filename,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ize=2g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6A1A-383A-4EC7-9B50-C958916C0C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Prototype Filesystem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F021-F87C-4980-A2B3-B2846BAC4E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6A3D-329D-4507-83F0-19D2CD87557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rea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.xfs supports a large number of options for configuration a large number of different XFS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e mkfs.xfs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s = 100 sectors = 100 x 512 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b = 100 blocks = 100 x 4 kilo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k = 100 *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Assuming 512 bytes sectors and 4 KB file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N option can be used to show filesystem parameters without creating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so provides the capability to pre-initialise the filesystem with directories and  inodes, which is useful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EEEB-6D24-4F42-9F94-AE12E7B2BC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tripe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igning file data on stripe width boundaries can significantly improve performance on large R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2MB write to filesystem with a 2MB stripe width and 512KB stripe unit will result in four I/Os, one to each lun. Without alignment this would often require two I/Os to one disk, and one I/O to the other three, taking longer than it sh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create a filesystem with a stripe unit of 1MB for an 8+1 RAID you would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nit=2048,swidth=16384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=1m,sw=8m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4FE0-BCBE-4C0A-85CB-CE8534CF73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Inode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kfs inode options allow the user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size of the inode from the default 256 bytes to up 204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ximum number of inodes in the filesystem, defaults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tended attribute alloc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options may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re the inode is allocated in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needs to be read from disk to read the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may be associated with the inode before data goes out of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allocate 512 bytes to each i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i size=512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8CFE-14BE-4E49-A46E-486CF0141E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Directory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372D-62D6-44B8-A686-DB6D7BA8A8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ecto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75BD-581B-424B-A6D7-8A1E4D40E3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Exte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journal log can be on a different device to the rest of th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 least 512 bl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ore than 64K blocks or 128MB, whichever is sm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aults to maximum size for &gt;1TB file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device could be a device with better IOPS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5K RPM disk or battery-back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869000"/>
            <a:ext cx="57600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3266-1720-4116-85C2-93BCA1C121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Log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680D-6021-4AA3-9391-E80C36EB40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- Realtim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40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ly designed for media streaming requiring predictable la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time volume tuned for large files without small inode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data and file data on separate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itmap allocator only has to manage file data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–r 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,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t_devi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s the device for the file data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r th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ives limited testing and support in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869000"/>
            <a:ext cx="57636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869000"/>
            <a:ext cx="647640" cy="1008000"/>
          </a:xfrm>
          <a:prstGeom prst="can">
            <a:avLst>
              <a:gd name="adj" fmla="val 25000"/>
            </a:avLst>
          </a:prstGeom>
          <a:solidFill>
            <a:srgbClr val="99cc66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B922-8DC6-4D7A-A9A7-2E433720D1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6:17Z</dcterms:modified>
  <cp:revision>338</cp:revision>
  <dc:subject/>
  <dc:title>Possible CXFS Administration and Monitoring Interfaces</dc:title>
</cp:coreProperties>
</file>