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8616-9121-4A2F-921C-DA3B855B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8A20-D9DC-44DE-9C4D-66744CF5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320F-808E-4115-9C15-EC1CB34F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A87F-7BB5-442B-B1F8-B1399448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B68F-3AAB-445D-B730-6E1CAAA1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0242-F244-4CAC-8C5D-B67F2AD6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C535-4FE6-4DFE-A74D-31CFBD66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2192-397D-48AD-A407-085FCB36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D03E0-CD71-4037-AB0E-7EAFD684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9EF3-458F-4350-814F-799ECB79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C13C-087F-449A-A6A3-121B0EEC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5201C-7CE8-43CF-8578-CCAC9023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30643EA4-11BD-4273-825C-2715ECD00651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7 – Extended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Extended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ded Attributes (EA) are a set of &lt;name,value&gt; pairs associated with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uses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 Control Lists (AC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agle ind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is a null terminated string &lt;= 255 ch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 is binary data &lt;= 6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E704-791E-40FC-AB24-B3855E069A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Namespa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A set is typically divided into name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Linux the namespace is the prefix of the EA 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XFS, the namespace is encoded in bits in a flags field with thes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” has value of 0x0000 – by default an attribute is in the user nam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ROOT       0x0002  /* use attrs in root (trusted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ECURE     0x0008  /* use attrs in security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YSTEM     0x0100  /* use attrs in system (pseudo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for XFS, EAs are really a triple &lt;name, value, flag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CADB-8BA2-4AFE-8CEF-4C5527FA11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Command Line Interf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package maintained by Andreas Gruenbacher and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fattr(1) for getting/listing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fattr(1) for setting and removing E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 are prefixed with the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command sets/removes/gets/lists 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ed on IRIX command, provides common interface for XFS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pace specified with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 closely models what XFS actually stores since names are the actual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getfattr -e hex -dm '.*'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posix_acl_access=0x0200000001000600ffffffff04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usted.SGI_ACL_FILE=0x0000000400000001ffffffff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attr -Rl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ttribute "SGI_ACL_FILE" has a 52 byte value for fil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B74A-DAAD-4CDB-BBFB-CE766A984F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Ondisk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can actually be binary data since it has a length field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FS kernel functions have been changed to handle binary names (used for future parent pointer EA'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FS EA's are stored in a variety of forms according to how big they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l or shor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in the i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ribute-fork extents in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filesystem leaf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tree form with node blocks and leaf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EA value can be in a remote filesystem block if it's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C3A1-6F7E-4FA0-92FB-13FD093242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Tu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using ACLs, every file access will require an EA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rformance, it is important to keep the EA's within the inode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a single filesystem block needs to be read 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Ls are a good example where the access checks occur frequ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crease the chance of being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the inode size, and/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able att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kfs.xfs –i size=512,attr=2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hort-form EA resides at the end of the inode and competes for space with the data ext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9A59-F114-4B41-B64D-1497207AEF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Attr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2 overcomes a restriction in the initial EA implementation that divided up the literal area at a fixed location (fork off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attr2 the fork offset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76360" y="3284640"/>
            <a:ext cx="5827680" cy="1827000"/>
            <a:chOff x="1476360" y="3284640"/>
            <a:chExt cx="5827680" cy="1827000"/>
          </a:xfrm>
        </p:grpSpPr>
        <p:sp>
          <p:nvSpPr>
            <p:cNvPr id="105" name=""/>
            <p:cNvSpPr/>
            <p:nvPr/>
          </p:nvSpPr>
          <p:spPr>
            <a:xfrm>
              <a:off x="1476360" y="3284640"/>
              <a:ext cx="5827680" cy="182700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33200" y="3625560"/>
              <a:ext cx="125676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31400" y="4538880"/>
              <a:ext cx="12571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96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840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8996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1840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9960" y="4538880"/>
              <a:ext cx="36565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193824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89960" y="465300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32440" y="4653000"/>
              <a:ext cx="914040" cy="342720"/>
            </a:xfrm>
            <a:prstGeom prst="lef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3200" y="339696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1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3200" y="431064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2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432680" y="3335040"/>
              <a:ext cx="1256760" cy="226800"/>
              <a:chOff x="4432680" y="3335040"/>
              <a:chExt cx="1256760" cy="226800"/>
            </a:xfrm>
          </p:grpSpPr>
          <p:sp>
            <p:nvSpPr>
              <p:cNvPr id="118" name=""/>
              <p:cNvSpPr/>
              <p:nvPr/>
            </p:nvSpPr>
            <p:spPr>
              <a:xfrm>
                <a:off x="4432680" y="3335040"/>
                <a:ext cx="1254960" cy="226800"/>
              </a:xfrm>
              <a:prstGeom prst="wedgeRectCallout">
                <a:avLst>
                  <a:gd name="adj1" fmla="val -3611"/>
                  <a:gd name="adj2" fmla="val 12777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32680" y="3335040"/>
                <a:ext cx="125676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ixed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75840" y="362556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75840" y="453888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2440" y="4538880"/>
              <a:ext cx="1440" cy="570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366160" y="4258080"/>
              <a:ext cx="1256760" cy="226440"/>
              <a:chOff x="5366160" y="4258080"/>
              <a:chExt cx="1256760" cy="226440"/>
            </a:xfrm>
          </p:grpSpPr>
          <p:sp>
            <p:nvSpPr>
              <p:cNvPr id="124" name=""/>
              <p:cNvSpPr/>
              <p:nvPr/>
            </p:nvSpPr>
            <p:spPr>
              <a:xfrm>
                <a:off x="5366160" y="4259520"/>
                <a:ext cx="1256760" cy="225000"/>
              </a:xfrm>
              <a:prstGeom prst="wedgeRectCallout">
                <a:avLst>
                  <a:gd name="adj1" fmla="val -5657"/>
                  <a:gd name="adj2" fmla="val 183888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66160" y="4258080"/>
                <a:ext cx="12567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oving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7A15-F30E-4BDC-BB1A-D0B454FB78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pio and tar do not backup and restore extend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using extended attributes, an EA backup tool like xfsdump and xfsrestore must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CCA5-C933-4AC3-8BE9-C67CCE3E78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3E21-97C4-426A-AAB0-F06926B25CA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9:40Z</dcterms:modified>
  <cp:revision>333</cp:revision>
  <dc:subject/>
  <dc:title>Possible CXFS Administration and Monitoring Interfaces</dc:title>
</cp:coreProperties>
</file>