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6"/>
          </p:nvPr>
        </p:nvSpPr>
        <p:spPr>
          <a:xfrm>
            <a:off x="3852360" y="-360"/>
            <a:ext cx="2930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28440" y="739440"/>
            <a:ext cx="492588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06120" y="4690800"/>
            <a:ext cx="4970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7"/>
          </p:nvPr>
        </p:nvSpPr>
        <p:spPr>
          <a:xfrm>
            <a:off x="0" y="9380160"/>
            <a:ext cx="293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8"/>
          </p:nvPr>
        </p:nvSpPr>
        <p:spPr>
          <a:xfrm>
            <a:off x="3852360" y="9380160"/>
            <a:ext cx="2930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54A68-91F7-46FC-A404-85D820D7FF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30240" y="739800"/>
            <a:ext cx="49370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28800" y="739800"/>
            <a:ext cx="493848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28800" y="739800"/>
            <a:ext cx="49305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28800" y="739800"/>
            <a:ext cx="49356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2880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2880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2880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28800" y="739800"/>
            <a:ext cx="49305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28800" y="739800"/>
            <a:ext cx="49305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30240" y="739800"/>
            <a:ext cx="49370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63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Deeply hooked into XFS. Block level, not byte. 64bit nu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for each i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Enforcement of quotas is optional. We can track usage to 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but don't have to enforce that (qnoenforce mount option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Generic commands do not scale to the size of xfs filesystem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but they do work with XF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Other filesystems use a file to record and track quotas, X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embeds this information into internal data structures in X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linked in the super block. So quota operations in XFS are journal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* Nathan has a patch for quotas for realtime. The dquot is 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to differentiate and you could set different quotas for meta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nd realtime dat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Project quotas was commented out of IRIX for a while, when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Linux quotas was done the project quota was used to imp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group quotas. Hitachi then asked for group quotas on IRIX, 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Nathan's project quotas to do group quotas was back ported to IRIX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XFS architecture team decided to use project quotas to do directo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level quotas, which is an inode flag that is inheritable. N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user tools on linux understand projects, so we have xfs_quo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that understands user, group and project quotas, even on realtim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project quotas are specific to xfs. every xfs inode has a pro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id. inodes inherit project id. does not allow links between ino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with different project ids. could be used as a cheat to grow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hrink a filesyste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qflags field in sb holds 3 bits for each type (user, group, projec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indicating if we 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- allocating (tracking) quot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- enforcing quot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- checked (on mount if this is not set but mount with quotas, go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bulk stat and rebuild quotas then set this bit. bit is unset w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filesystem is not mounted with quo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b also holds two special inode numbers for the dquot fi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linux quotas in the vfs maintained by Jan Kara at SuS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quota file is large and gets fragemented since it needs to deal w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huge range of ids support by linux. it could preallocate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it could be a btre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2880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28800" y="739800"/>
            <a:ext cx="493848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2880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28800" y="739800"/>
            <a:ext cx="49305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28800" y="739800"/>
            <a:ext cx="493848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28800" y="739800"/>
            <a:ext cx="493848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2880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CE5DA-FF50-4B01-80A7-004A3BFB4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846000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8040" y="3729960"/>
            <a:ext cx="846000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0B51A-5B76-471A-90A1-6174BC68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804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280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62632-FB89-41DB-8001-6637E477F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98240" y="146160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58800" y="146160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8040" y="372996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98240" y="372996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58800" y="372996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39EA1-E7D7-4AAD-996D-573AF6AD2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8040" y="1461600"/>
            <a:ext cx="84600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84600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326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83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804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8040" y="1461600"/>
            <a:ext cx="84600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34779-2020-407B-BF1D-97E4B8E7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280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8040" y="3729960"/>
            <a:ext cx="846000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846000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8040" y="3729960"/>
            <a:ext cx="846000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804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280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98240" y="146160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8800" y="146160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8040" y="372996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98240" y="372996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58800" y="372996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84600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3F595-2E67-4DC0-A81F-17501C87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D8316-A977-4C91-B24C-4EFD4961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31270-33A7-4219-BA20-4EC66E18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326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83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DE94D-C4A8-437C-B5D4-A5EAB410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804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23D01-8ED4-4261-977D-43B261E4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280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DDEAD-95BB-4E1A-B7BE-156B69C8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8040" y="3729960"/>
            <a:ext cx="846000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E6B40-BDFF-4A08-AC67-5E36FC51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144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8040" y="1461600"/>
            <a:ext cx="84600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760" y="6237360"/>
            <a:ext cx="11764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89072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95FF2BF3-A92D-4D3D-AA09-E1EFB37382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126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6640" y="2695320"/>
            <a:ext cx="54975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6160" y="5694480"/>
            <a:ext cx="189072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126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5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8 - Quotas</a:t>
            </a:r>
            <a:endParaRPr b="1" lang="en-US" sz="32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600" spc="-1" strike="noStrike">
              <a:solidFill>
                <a:srgbClr val="363636"/>
              </a:solidFill>
              <a:latin typeface="Arial"/>
              <a:ea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5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Quota Limits 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84726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mits xfs_quota -x -c 'limit bsoft=1000m bhard=1200m usernam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mits xfs_quota -x -c 'limit isoft=500 ihard=700 usernam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Lim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quota -x -c 'limit -g bsoft=1000m bhard=1200m groupnam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 controlled directories are first added to /etc/projects. Project names are optionally added to /etc/projid to provide an id/name mapp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quota -c 'project -s projectname' is run to initialize project direct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quota -x -c 'limit -p bsoft=1000m bhard=1200m projectnam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1BC3C-C2D2-47F3-92F6-4D91C3BCFC4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5320" y="352080"/>
            <a:ext cx="84373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Enabling/Disabling Quota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846468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>
              <a:lnSpc>
                <a:spcPct val="7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quota can be used to temporarily or permanently disable quotas on a filesystem using the following command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7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able – Temporarily disable quota enforc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able – Enable quota enforcement. Used to enable quotas if they have been disabled or the filesystem was mounted with qnoenfor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 – Switch off quota management quotas can only be re-enabled by un-mounting and remounting the filesystem (Limit information is preserved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ve – remove quota extents from a filesystem. All quota limits are destroy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C26A7-14D3-497E-A24E-61F9F67732E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5320" y="263520"/>
            <a:ext cx="844236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Advanced xfs commands (xfs_quota -x)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84693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quota also contains command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marise the state of xfs quotas on a system using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m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ipulate the grace period using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im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up and restore the quota information contained in a filesystem using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um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stor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ands. These commands are also used internally by xfsdu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A3F20-6C29-468D-86EF-E0A39960199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Generic Quota Tool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ddition to xfs_quota xfs also works with generic quota tools provided on Linu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tools include quota, repquota, quotactl, edquota, quotacheck, setquota, and quotaon/quotaoff (enforcement only) and quotawar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generic tools to not understand XFS project quot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E3AA4-2D45-41E9-A826-62483A52E7E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Providing user feedback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systems are configured to provide a level of feedback to users if they exceed their quota limi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common method for informing users is to send email using the quotawarn command from the generic quota package. Quotawarn is often as a cron job dai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dback can be provided for interactive users by running “xfs_quota -c quota” in  users login scripts (/etc/bash.bashrc.local for examp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DB726-D0F8-4C61-9A93-8B235BCA415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Implementa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 quotas are implemented as part of the filesystem metadata (instead of maintaining quota data in a file within filesystem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s are updated in realtime as the filesystem is changed. No “quota checks” need to be r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09BBB-39F3-488A-8527-8153B5C0B11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5320" y="307800"/>
            <a:ext cx="843732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Implementation – Project Quotas.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846468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quotas are implemented using the group quota inode. This excludes project and group quotas from being enabled at the same ti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configuration information is stored in /etc/projects and /etc/proji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quota -s projectname initializes the project id in inodes contained under directories specified in /etc/projec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F9D78-E425-4651-9B45-22720130DEB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5320" y="307800"/>
            <a:ext cx="843732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Implementation – Examinin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64680" cy="450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db can be used to understand the internals of the quota implement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 inodes can be seen in the filesystem super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db -xr -c sb -c p /dev/hd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77000"/>
              </a:lnSpc>
              <a:spcBef>
                <a:spcPts val="3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77000"/>
              </a:lnSpc>
              <a:spcBef>
                <a:spcPts val="3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quotino = 1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77000"/>
              </a:lnSpc>
              <a:spcBef>
                <a:spcPts val="3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quotino = 1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db -xr -c 'inode 131' -c p /dev/hd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quota entries can be viewed with xfs_db's dquot comm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do xfs_db -xr -c 'dquot username' -c p /dev/hd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do xfs_db -xr -c 'dquot -p projectname' -c p /dev/hd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odes can be interrogated to determine which project they belong to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s -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do xfs_db -xr -c 'inode 675234191' -c p /dev/hd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e.projid = 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e.uid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e.gid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7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7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DF84E-9845-44E6-A07F-FD7DAD39C95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Delme? Quotas – Dave's Initial Slide. 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8760" indent="-158760">
              <a:lnSpc>
                <a:spcPct val="10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nd group qu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4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ID 42 currently has X blocks &amp; Y inode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4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space/inodes vs dynamc b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4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 count is file data, intimately tied to space allocator (NB: dquots are journall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(pseudo-directory) qu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4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var/log currently has X blocks &amp; Y inodes, is limited to ..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 files and dqu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4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(invisible) inodes in primary S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4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 simpl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fs_disk_dquot_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ray, ID inde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85951-7FD6-4888-8AB3-1A8273CBB78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Quota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s provide a method for managing disk resour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otas can be used to report on disk us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otas can be used to control disk us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s manage filesystem resources in two way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Managing Disk Space (bloc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Managing the Number of Files (inod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resources can be managed on a per user, group or directory (project) ba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DC078-6FF9-450F-98C1-6F1EBB5EEA9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5680" y="485640"/>
            <a:ext cx="84456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Quota Typ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84726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>
              <a:lnSpc>
                <a:spcPct val="101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s can be tracked or enforced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 the disk usage of individuals or system us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 the disk usage of group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 the disk usage of directories associated with a specific project. Projects may cross organizational 'group' 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broader levels of control than available using user or group quot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2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be used to effectively shrink a file system allowing administrators to reallocate disk space as need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53C31-96FF-4707-BB02-4EB02C1EB0B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Reporting Vs Enforcemen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>
              <a:lnSpc>
                <a:spcPct val="7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s can be used to monitor disk usage and optionally enforce limi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s can be used to monitor disk usage across quota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efficient than using unix tools like du that must traverse the file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otas are maintained as the filesystem is us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s can be used to enforce limits on users, groups or projec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ent us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ects against rouge processes bringing down system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are two types of limits. Hard and sof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EF26D-6B7E-4171-A17B-FDEA2447BD9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5320" y="307800"/>
            <a:ext cx="843732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7000"/>
              </a:lnSpc>
              <a:buClr>
                <a:srgbClr val="440099"/>
              </a:buClr>
              <a:buFont typeface="Helvetic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Enforcement (Limits)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846468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>
              <a:lnSpc>
                <a:spcPct val="7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two types of limits; Hard and So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s are advis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 additional disk resources to be consumed for a period of time. this is known as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r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io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flexibility to users and processes that may occasionally need to exceed there quota temporari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 further allocation of disk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I/O that attempt to allocate further disk resources is fail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isting data on the disk is preserved and existing disk allocations can still be writ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s must remove existing files to before new resources can be us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 limits are be enforced as hard limits after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r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io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s are never applied to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o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FE3FF-7BE8-4931-9FE3-8DA6249988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5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onfiguring Quota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 quotas are enabled as filesystem mount options when the filesystem is moun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horndale AMT;Times New Roman"/>
              </a:rPr>
              <a:t>User, Group and Project quotas are enabled independently. Group and Project quotas are incompat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horndale AMT;Times New Roman"/>
              </a:rPr>
              <a:t>Each quota type can be specified as noenforce, in this case quota reporting will be maintained but not enforc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horndale AMT;Times New Roman"/>
              </a:rPr>
              <a:t>Valid mount option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horndale AMT;Times New Roman"/>
              </a:rPr>
              <a:t>uquota, uquotanoenforce - User quo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horndale AMT;Times New Roman"/>
              </a:rPr>
              <a:t>gquota, gquotanoenforce - Group quo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horndale AMT;Times New Roman"/>
              </a:rPr>
              <a:t>pquota, pquotanoenforce - Project qu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horndale AMT;Times New Roman"/>
              </a:rPr>
              <a:t>e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horndale AMT;Times New Roman"/>
              </a:rPr>
              <a:t>mount -o quota,pquota /dev/hdb1 /media/xfs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horndale AMT;Times New Roman"/>
              </a:rPr>
              <a:t>Or in fs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horndale AMT;Times New Roman"/>
              </a:rPr>
              <a:t>/dev/hdb1 /media/xfstest xfs defaults,quota,pquota 0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E52DC-ADA3-46A6-BA26-EBF06CB3CFD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5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xfs_quota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>
              <a:lnSpc>
                <a:spcPct val="7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quotas are configured the xfs_quota tool can be used to report on disk usage and set limi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 operation is controlled by xfs_quo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quota has two modes of operation, basic and expert mode (xfs_quota -x). Basic mode includes commands for reporting disk usage to users. Expert mode contains advanced commands that allow the modification of the quota syst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1ABA7-9A0F-4818-B0A7-9445AE66E5F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Quota Reportin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 quota 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do xfs_quota -xc 'report -h' /h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quota on /home (/dev/hdb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s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ID      Used   Soft   Hard Warn/Grace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-------- --------------------------------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ot         4.6G         0      0  00 [------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user  103.4G      0      0  00 [------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ing report as an ordinary user simply reports that users disk usage while running as root allows the disk usage of all users to be repor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do xfs_quota -xc 'report -h' /hom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m0.287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do du -hs /ho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m3.086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7AF08-26AE-4CF4-97D8-6996CD841EC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atz</cp:lastModifiedBy>
  <dcterms:modified xsi:type="dcterms:W3CDTF">2006-10-30T21:51:45Z</dcterms:modified>
  <cp:revision>1</cp:revision>
  <dc:subject/>
  <dc:title>Possible CXFS Administration and Monitoring Interfaces</dc:title>
</cp:coreProperties>
</file>