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07F53-5BF5-489B-A046-112CB9F46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EBD42-1128-4D42-9CBE-A33E0264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47C23-8B59-41F3-A883-11735E8E2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EDF14-E3E0-43EA-862D-DD3EA8057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E6685-E344-4CED-AD21-98E196AD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DD76D-803D-4F15-89EE-CE04FAA7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DC3B7-B91B-4E66-92A9-E14708C4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59F9A-8944-4288-9157-DF7972FB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2FEBF-F10B-400B-AC1E-93918100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D7FDC-9B68-4AC0-8837-4D25E8CB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F045A-5B74-43E5-B975-FDAEF079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5B6CC-76CE-46F1-8924-8862C0E8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ACDD4092-910C-41CD-B9D1-4C039C80471C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10 - Q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10 - Q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QA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: Incorporate Nathan’s stuff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0 - Q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3547E-E34D-4DE0-A9AB-236CF9E5FFB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QA Kernel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ktrace, strace, ltr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kd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che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ic kernel debug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AB, PAGE_ALLOC, SPINLOCKS, MUTE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EM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debug (assert, runtime chec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tracing option (event histo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error injection option (xfs_io “inject”, fsstr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0 - Q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9BBA8-1D8A-410C-8DB8-77715CFEEC7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QA Large Filesystem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always lack hardware to test the high end of filesystem size, inode count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use large sparse files for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d to allocation group size ch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kfs -dfile,name=/tmp/x,size=1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 -o loop /tmp/x /mnt/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tests/tools/ag-wi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xfs_db to mark some AG's as “full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d in QA (check/repair issu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repair undergoing surg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be done all we can with this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0 - Q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FF778-5ACF-4351-9F2B-01864DA7BC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0 - Q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75A2E-8F1B-4CD4-B4FB-FA2AC13FEFF9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21:53:27Z</dcterms:modified>
  <cp:revision>338</cp:revision>
  <dc:subject/>
  <dc:title>Possible CXFS Administration and Monitoring Interfaces</dc:title>
</cp:coreProperties>
</file>