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1D7B-3871-498E-9E46-5108B3C4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0A1B7-D162-45C3-ABFC-FF3261AC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DABCF-435A-466C-98CF-29E14997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A013-88C6-4334-86F8-26666405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214A-1B25-4927-8AB5-0520C9C6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B1A91-E77F-4E8C-AB5E-20B58620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F1F4-2D7C-4DFD-995C-C0B88E00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3AC1-1AC3-4868-BEC9-7F18A3BC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6BD4-AB8E-4826-8934-E0DDED4D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002F-FACF-4FD4-9DEE-3C6ADFBF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02702-1090-4813-9367-49BBD14E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03C1-2C2C-4490-BB65-EFD4AFC7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5ABDC89E-E361-40DC-B27E-A8F0B5F97564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ss.sgi.com/bugzilla/show_bug.cgi?id=723" TargetMode="External"/><Relationship Id="rId2" Type="http://schemas.openxmlformats.org/officeDocument/2006/relationships/hyperlink" Target="http://oss.sgi.com/bugzilla/show_bug.cgi?id=723" TargetMode="External"/><Relationship Id="rId3" Type="http://schemas.openxmlformats.org/officeDocument/2006/relationships/hyperlink" Target="http://oss.sgi.com/bugzilla/show_bug.cgi?id=723" TargetMode="External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Re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6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stage, the filesytem is in a mountable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the directories analysing all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directories with any corruption are rebuilt with whatever entries can be recov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ssing root directory is recre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nodes that are in a directory are marked rea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, any unreached inodes are put into lost+f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E231-1F66-40BF-B960-7D21B5FA43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7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inks for inodes are corrected based on the data collected in phase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15F6-2D9E-43C5-A0CE-24317BE96E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iaging xfs_check and xfs_repair probl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of the time, inode information is requir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inode &lt;inode numb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root inode number can be derived from the superbloc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sb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 roo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or directories, we can also dump the contents from the extent list shown in the in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dblock &lt;file offset in block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irectories have file offsets typically starting at 0, 8388608 and 16777216. Each of these offsets stores different information for a direc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filename and inode numbers at 0, hash values at 8388608 and free space information at 167772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7DA0-161F-4B18-A0C9-21395A7D32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and xfs_check should ag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804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one of the tools reports a problem when the other passed the filesystem, there is a problem with one of th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likely xfs_re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bugzilla/show_bug.cgi?id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=7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check finds some errors on the filesy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387655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3313696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7197100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repair reports no probl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20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1 - find and verify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2 - using internal 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zero lo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filesystem freespace and inode map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found root inode chu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3 - for each A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and clear agi unlinked lis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known inodes and perform inode discover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newly discovered inod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4 - check for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etting up duplicate extent list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 lost+found (if it exists) 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ing existing "lost+found" i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arking entry "lost+found" to be dele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heck for inodes claiming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hase 5 - rebuild AG headers and tre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6 - check inode connectivit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ting contents of realtime bitmap and summary in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ensuring existence of lost+found direc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filesystem starting at /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rebuilding directory inode 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all unattached subtrees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s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oving disconnected inodes to lost+foun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7 - verify and correct link coun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7F4C-62FF-4F59-B951-D6FE3278594B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the offending inodes…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xfs_db -c "inode 387655" -c "print" /dev/sda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agic = 0x494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ode = 0407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version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format = 1 (loc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linkv1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size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block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extsize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extent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unlinked =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i8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parent.i4 = 1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B03A-3687-41D1-8C68-E1531F8BF9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and Repair Fails – Corrupted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log is corrupted you will see an error like: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mount &lt;filesyste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unt: Unknown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dmesg | tail -2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“&lt;filesystem&gt;": xfs_inode_recover: Bad inode magic number . .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"dm-0": XFS internal error xlog_recover_do_inode_trans(1) at line 2352 of file fs/xfs/xfs_log_recover.c. Caller 0xffffffff88307729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/recovery failed: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 fai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xfs_repair &lt;devi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ase 1 - find and verify superblock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Phase 2 - using internal log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         - zero log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ERROR: The filesystem has valuable metadata changes in a log which needs to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be replayed.  Mount the filesystem to replay the log, and unmount it befor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re-running xfs_repair.  If you are unable to mount the filesystem, then us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the -L option to destroy the log and attempt a repair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Note that destroying the log may cause corruption -- please attempt a mount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of the filesystem before doing thi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eful information can be collected for tria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–C &lt;filename&gt;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-t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t in this case, the only option may be to throw the log aw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ourier New"/>
              </a:rPr>
              <a:t># xfs_repair -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CA96A-29C6-4D36-A5B3-16CDAA90F2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A2D7-C7FD-433D-9A70-20966C86281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tro to checking and repairing filesystems, why do we need to do thi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2D8B-4303-4BBD-864E-E0B3F8580C0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he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is a script that runs xfs_db to do a filesystem ch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check" command in xfs_db scans all the metadata structures for in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uses a different codebase to xfs_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check and xfs_repair can be used to cross check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check vs xfs_repair -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4DF3-4EC7-4EB4-A697-CE7D03220D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scans the filesystem and corrects any problems encoun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performs a scan and repair in seven ph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hase relies on the previous phase to fix a certain class of potential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uses libxfs which is a partial port of the XFS kernel code to user-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F0374-922C-4BF3-8A08-590C3DF276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, verify and fix super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uperblock is not found, xfs_repair will st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up a virtual mount structure for the common XFS code base (libxfs) to work f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014EC-5AB7-40D9-834A-86099BEE43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 the AG header structures (AGI, AGF and AGFL) and scans the AGF and AGI btre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9F13-F44C-41B7-9806-6CF173FCF4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AGI btree from phase2, scan the inode tree, processing the unlinked list for deleted inodes and finding possible missing inode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all the found inodes, recording used filesytem blocks (ext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rectory inodes, scan the directory structure for more lost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d inodes are trashed including unrecoverable corrupted direct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A70F-14BA-4B8A-B603-E1E84A3FEE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inode extents again. Any inode with an extent covering used data is tras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A249-25BD-49C1-A28A-D561B89BD9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5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uild AG headers and structures including the AGI btree, AGF btrees and AGFL regardless whether any errors have been found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 inodes are also reconstru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8628-2DEA-4C36-B5D6-91F356299D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10Z</dcterms:modified>
  <cp:revision>335</cp:revision>
  <dc:subject/>
  <dc:title>Possible CXFS Administration and Monitoring Interfaces</dc:title>
</cp:coreProperties>
</file>