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DB4B7-F4BA-44D9-BF7E-967AA019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79DC-6A6A-455E-9E91-1E7FBF94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E82E-CA4E-4224-8DBC-64D358EC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FDA2-0AA9-4462-B77F-CC7DBBFC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2BC9-BDAB-427C-83C5-E407FC5C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DD14F-953D-44A7-87BE-C1710CEC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9233-1D59-42C5-872F-3FEAD3AD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0924-08FA-4930-AA23-271CD999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7367-4F28-4647-B62D-80C884D1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1D90E-8209-43ED-BDDF-8B1BA618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1624B-0D48-4E75-A7F6-68DE7FE0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1EA8B-A781-4A74-BE72-1E9DE950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4932C9B0-E1E6-468E-93FB-E0C60B0CF8ED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3 - Monit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AIL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ush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the AIL is moved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succes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su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ushbuf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inode locked – pushbuf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inn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pi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lock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flushin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ail was flu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restar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log write re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flus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a log was for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42FFF-2C43-4E13-8512-C36DC8C753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Quota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sk quota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laims_mi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sk quota reclaim m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quot_d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upl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mi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isk quota misses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h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isk quota in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qwant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ke_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shaked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ct_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nactive data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FEBEB-17E9-435D-A1F8-F1ABC1AC99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sta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misc/xfsstats.pl -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6B94-6B04-4DCD-8C55-4ABFAA58A8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3FDC-EE5C-47FD-8D4C-09F0BA37FD3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Monitor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Dave Wright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8C53A-19F9-4D54-A005-9668A222D9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tch grep inode /proc/slab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ar –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ODO: Need to ins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abtop -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nitor the sl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5C1AB-94CA-4F71-85BC-EF28822878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Inode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attemp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looks for inod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fou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inode found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frecycl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fails because inode was 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miss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had to go to disk for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d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times missed but found from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reclaim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recyled the inode’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attrchn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changed inod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lush_cou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inodes are being flu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cluster_flushc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inodes clu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cluster_flushinod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not able to inod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8918-1AA6-45F6-921D-D686C09538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Directory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ok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ile name directory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y cre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y rem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tden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getden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A3D5-3AD1-4145-AAFB-F28F831D21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File Attribute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ge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get” operation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se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se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remo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remove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lis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lis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FCBC-925F-44F2-B7C7-F490FB4A0A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Allocation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alloc_exte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alloc_bloc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block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free_exte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s f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free_bloc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blocks f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look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allocation btree lookup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eee.compar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compares in alloc btre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insrec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 record inserts in 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delrec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 record deletes in 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519E7-FF85-4CE1-8B7D-2DD00E1BFC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Block Map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read_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map 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write_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map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un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dele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add_exli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insertions fo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del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del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look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cmp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comp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look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btree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comp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comp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insr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in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delr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del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01150-DDCD-418E-BB19-FAAED11B7F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Journaling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sy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ransactions waiting to be 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asy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async transaction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emp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that did not do any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wri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og buffer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blo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og blocks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noiclo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entry attempt during memory fl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xfs_log_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force_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xs_log_force_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8653-02B3-4075-8645-B1F5C2986A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5:40Z</dcterms:modified>
  <cp:revision>343</cp:revision>
  <dc:subject/>
  <dc:title>Possible CXFS Administration and Monitoring Interfaces</dc:title>
</cp:coreProperties>
</file>