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6"/>
          </p:nvPr>
        </p:nvSpPr>
        <p:spPr>
          <a:xfrm>
            <a:off x="385272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28440" y="739800"/>
            <a:ext cx="494028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7"/>
          </p:nvPr>
        </p:nvSpPr>
        <p:spPr>
          <a:xfrm>
            <a:off x="0" y="93801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8"/>
          </p:nvPr>
        </p:nvSpPr>
        <p:spPr>
          <a:xfrm>
            <a:off x="3852720" y="93801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F09EA-2FFF-4B23-9DBC-57EC7A1BC3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melbourne.sgi.com/dmf_and_friends/internals/DMAPI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1E435-0F60-4E98-AD6F-09800C733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09250-AEF6-4C4D-B36F-5C6BAF5CB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307DC-008E-4E97-AD14-2A0841F7D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81234-5A96-4023-AC9C-8D987127F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84148-10E2-4ACE-B238-945357B38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83C95-A669-4CBD-8884-728D1C9ED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5D03D-9665-4E55-8EF2-EC5B1E281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AF234-A2F2-432C-90DA-4443CBB44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BE931-D210-4DD7-9E76-BB19D12F9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89A44-B6DE-4A67-8827-CA7FCD3DD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077F2-A25C-417D-9915-C84D97972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4E696-4079-4982-A3E6-7214400FA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012000"/>
            <a:ext cx="9144000" cy="0"/>
          </a:xfrm>
          <a:prstGeom prst="line">
            <a:avLst/>
          </a:prstGeom>
          <a:ln w="57240">
            <a:solidFill>
              <a:srgbClr val="44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13760" y="6264360"/>
            <a:ext cx="539640" cy="44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390400" y="6237360"/>
            <a:ext cx="11905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673440" y="6237360"/>
            <a:ext cx="1905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Page </a:t>
            </a:r>
            <a:fld id="{ACE73C6C-188E-42EC-A2EC-784A20D99171}" type="slidenum">
              <a:rPr b="0" lang="en-US" sz="1000" spc="-1" strike="noStrike">
                <a:solidFill>
                  <a:srgbClr val="36363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25520" y="6199200"/>
            <a:ext cx="2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537000" y="6199200"/>
            <a:ext cx="19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323640" y="6237360"/>
            <a:ext cx="19270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13223" t="9376" r="18457" b="9336"/>
          <a:stretch/>
        </p:blipFill>
        <p:spPr>
          <a:xfrm>
            <a:off x="812880" y="1346040"/>
            <a:ext cx="3819600" cy="3872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991200" y="0"/>
            <a:ext cx="2148120" cy="6858000"/>
          </a:xfrm>
          <a:prstGeom prst="rect">
            <a:avLst/>
          </a:prstGeom>
          <a:solidFill>
            <a:srgbClr val="44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486560" y="5400720"/>
            <a:ext cx="1214640" cy="984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34800" y="423720"/>
            <a:ext cx="3962520" cy="220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47800" y="2066760"/>
            <a:ext cx="40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Arial"/>
              </a:rPr>
              <a:t>Silicon Graphics, Inc.</a:t>
            </a: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97000" y="2695320"/>
            <a:ext cx="551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825800" y="569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39480" y="6092640"/>
            <a:ext cx="192708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lvl="1" marL="40176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249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opengroup.org/pubs/catalog/c429.htm" TargetMode="External"/><Relationship Id="rId2" Type="http://schemas.openxmlformats.org/officeDocument/2006/relationships/hyperlink" Target="http://www.csu.edu.au/special/auugwww96/proceedings/alex/alex.htm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2695320"/>
            <a:ext cx="602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XFS Overview &amp; Internals</a:t>
            </a:r>
            <a:br>
              <a:rPr sz="3200"/>
            </a:b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12 - DMAPI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150560" y="4743000"/>
            <a:ext cx="55753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Events - Filesystem Admin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filesystem is about to be mount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unm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filesystem is about to unmou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m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 unmount succeeded/fail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esystem has run out of spa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ot implemented by XF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b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ode has been read from dis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D1C99-E27F-479C-9324-771132118C4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Events - Namespac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/postcre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30456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 a file or directo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ve/postrem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30456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link a filesystem obj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ame/postre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30456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ame a filesystem obj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/post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30456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hard) link a filesystem obj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link/postsym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30456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 a symlin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0F9C3-6320-400D-9640-498266A591C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Events - Data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pecified file byte range is about to be rea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pecified file byte range is about to be writt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nc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e is about to be truncated to the specified address (away from or towards zero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70415-2FE1-41A7-8FD2-C01DEF6D81A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Events - Metadata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rib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30456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filesystem object's attribute has chang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tro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30456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filesystem object has been destroy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ot implemented by XF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30456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c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6676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previously issued event is cancell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30456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6676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filesystem object has been clos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0B466-BA53-4F75-B38A-F340CDC2EBC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Events - Pseudo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ev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message between cooperating DMAPI process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A2799-E5D1-4442-9BB9-F648AED2AD9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Sessions and Disposition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API uses sessions as the primary communication channels between DM application and the kernel component of DM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most all DMAPI calls require a session argu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ssions and event lists allow DM application to exercise a fine control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the event delivery and gen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s may direct different event types to different sessions and avoid session overloa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ositions indicate which event types should be delivered to this sess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DM application creates a session by calling dm_open_session() and then may register event dispositions for this session by calling dm_set_disp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1A3C8-56ED-426F-9255-EDA30F6E53D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Connecting Events with Session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desired events to be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_eventlist_t 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by file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persist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by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glob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trigger mount ev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set disposition of those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ipient s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CD72A-80B9-4662-BF1C-041BF30BB2A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Connecting Events - DMAPI Function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get_eve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t list of enabled events for obj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set_eve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 list of enabled events for obj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set_di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 disposition of events on a filesystem to a particular sess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set_return_on_destro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fy a DMAPI attribute to return with destroy ev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252CC-F585-4933-969B-37AF6B0BA1D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Managing Sessions - DMAPI functions 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create_s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 a new sess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query_s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ery a session for inform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destroy_s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troy the specified sess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getall_se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t all extant sess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55A74-730C-42DE-AD8D-76D6524BBC2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Processing Events - DMAPI Function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get_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t next available event messag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respond-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d to one ev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ify FS of slow application ev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create_user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ate a user pseudo-ev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send_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 message to indicated sess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move_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ve event to another sess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F684F-DC62-4F9E-BD44-A45E16C1F59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440099"/>
                </a:solidFill>
                <a:uFillTx/>
                <a:latin typeface="Arial"/>
              </a:rPr>
              <a:t>DMAPI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gemen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lica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ramming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terf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ed by Data Management Interfaces Group consortium (DMIG), 1993-199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standardized access to filesystems for Hierarchical Storage Managers (HSMs) and backup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DMAPI in SLES is used by vendors other than just SG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B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H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F9871-B725-4240-969D-387B3B770DF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Session Recovery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getall_se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t all extant sess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query_s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ery a session for inf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create_s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/assume a sess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getall_tok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t outstanding tokens for a sess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find_event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t message for an ev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getall_di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t event dispositions for all filesystems for a s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826B3-8CAE-4B0B-94A2-53263A612EF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anaged Region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71360" indent="-171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anaged regions is the mechanism for an application to control file data access at a granularity level less than file size. It is an extent in the logical file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279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ing off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279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279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ent generation flag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byte-granularity events for all accesses/modifications of a file's d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279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apply to file objec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ver non-overlapping byte ranges in a fi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arately detect reads, writes, trunca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one, persistent in XF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96C78-4877-45C9-BC86-5706F3F940C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anaged Regions – DMAPI Function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get_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t managed regions for a f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set_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 managed regions for a f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EAFF3-221A-4C53-81A6-1D2EB0BEC8D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File Access and Modification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not change mtime or atime (ctime chang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ODO: Bu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not 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not generate ev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6E5B7-CF1B-4F9C-BAAC-96AB5EB1F09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File Access and Modification – DMAPI Function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_probe_h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 rounded result of the area where a hole is to be punch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_punch_h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a hole in a fi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_read_inv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 a file bypassing DMAPI ev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_write_inv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rite a file bypassing ev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_sync_by_hand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nc a file's data to dis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_get_fileatt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 file attribut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_set_fileatt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t file time stamps, ownership, mode, length, etc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_get_allocinf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 allocation info for a fi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6B4A2-DBD4-406F-923B-F5469F1CC36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Persistent DMAPI Data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d per file as SGI_DMI_xxx extended attribu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istent across reboo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F stores in SGI_DMI_DMFATT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fid, file s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sion inf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odes should be 512 bytes (-i size=51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1EE6D-693B-4FF5-BEAB-FDBE483ECEE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Persistent DMAPI Data – DMAPI Function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get_dmatt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trieve a DMAPI attribu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set_dmatt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/replace a DMAPI attribu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remove_dmatt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move a DMAPI attribu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getall_dmatt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trieve all DMAPI attributes for a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03E71-A076-42E8-BCB6-96FA693555C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Scanning Filesystems Quickly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init_attrl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lize a bulk attribute location offse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get_bulkatt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t bulk attributes for entire filesyst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implemented by XF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_get_bulk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t data management attributes for entire file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5F35E-2831-46D9-8E10-961595DB770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Right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 applications use the tokens to obtain access rights to file system objects to guarantee stability of the obje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ow session to control access/updat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 for atomic updates over many fun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 rights may b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ha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xclu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ared right allows read-only access (DM_RIGHT_SHAR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clusive right allows modification to the object (DM_RIGHT_NU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seudo-available in XF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274A0-628C-4E2F-9B6B-80239B5771B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Rights – DMAPI Function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release_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lease all access rights to an obj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query_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ermine set of access rights to an obj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upgrade_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grade current right to exclusiv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downgrade_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wngrade current right to sha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ot implemented in XF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_request_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est a specific access righ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5D5B6-2477-429C-9579-E47CF9867F1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HSM Exampl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038480" y="5176800"/>
            <a:ext cx="2597400" cy="503280"/>
          </a:xfrm>
          <a:custGeom>
            <a:avLst/>
            <a:gdLst/>
            <a:ahLst/>
            <a:rect l="l" t="t" r="r" b="b"/>
            <a:pathLst>
              <a:path w="1637" h="360">
                <a:moveTo>
                  <a:pt x="0" y="0"/>
                </a:moveTo>
                <a:cubicBezTo>
                  <a:pt x="0" y="20"/>
                  <a:pt x="0" y="39"/>
                  <a:pt x="0" y="59"/>
                </a:cubicBezTo>
                <a:lnTo>
                  <a:pt x="5" y="360"/>
                </a:lnTo>
                <a:lnTo>
                  <a:pt x="1637" y="360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218000">
            <a:off x="1668240" y="3478320"/>
            <a:ext cx="5265720" cy="1681200"/>
          </a:xfrm>
          <a:prstGeom prst="leftRightArrow">
            <a:avLst>
              <a:gd name="adj1" fmla="val 50000"/>
              <a:gd name="adj2" fmla="val 62352"/>
            </a:avLst>
          </a:prstGeom>
          <a:solidFill>
            <a:srgbClr val="c0b9d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663480" y="2435400"/>
            <a:ext cx="839880" cy="18414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3581280" y="3317760"/>
            <a:ext cx="762120" cy="18147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38600" y="1219320"/>
            <a:ext cx="2816640" cy="11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363636"/>
                </a:solidFill>
                <a:latin typeface="Arial"/>
              </a:rPr>
              <a:t>Primary Storage</a:t>
            </a: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363636"/>
                </a:solidFill>
                <a:latin typeface="Arial"/>
              </a:rPr>
              <a:t>Online high-performance disk</a:t>
            </a:r>
            <a:endParaRPr b="0" lang="en-US" sz="1600" spc="-1" strike="noStrike">
              <a:solidFill>
                <a:srgbClr val="36363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363636"/>
                </a:solidFill>
                <a:latin typeface="Arial"/>
              </a:rPr>
              <a:t>e.g. 2 to 10 hours</a:t>
            </a:r>
            <a:br>
              <a:rPr sz="1600"/>
            </a:br>
            <a:r>
              <a:rPr b="0" lang="en-US" sz="1600" spc="-1" strike="noStrike">
                <a:solidFill>
                  <a:srgbClr val="363636"/>
                </a:solidFill>
                <a:latin typeface="Arial"/>
              </a:rPr>
              <a:t>current projects</a:t>
            </a:r>
            <a:endParaRPr b="0" lang="en-US" sz="16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19320" y="4832280"/>
            <a:ext cx="19540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800" spc="-1" strike="noStrike">
                <a:solidFill>
                  <a:srgbClr val="363636"/>
                </a:solidFill>
                <a:latin typeface="Arial"/>
              </a:rPr>
              <a:t>Demote</a:t>
            </a:r>
            <a:endParaRPr b="0" lang="en-US" sz="1800" spc="-1" strike="noStrike">
              <a:solidFill>
                <a:srgbClr val="36363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i="1" lang="en-US" sz="1600" spc="-1" strike="noStrike">
                <a:solidFill>
                  <a:srgbClr val="363636"/>
                </a:solidFill>
                <a:latin typeface="Arial"/>
              </a:rPr>
              <a:t>e.g. &gt; 30 days</a:t>
            </a:r>
            <a:endParaRPr b="0" lang="en-US" sz="16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91120" y="5181480"/>
            <a:ext cx="175248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800" spc="-1" strike="noStrike">
                <a:solidFill>
                  <a:srgbClr val="363636"/>
                </a:solidFill>
                <a:latin typeface="Arial"/>
              </a:rPr>
              <a:t>Demote</a:t>
            </a:r>
            <a:endParaRPr b="0" lang="en-US" sz="1800" spc="-1" strike="noStrike">
              <a:solidFill>
                <a:srgbClr val="363636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i="1" lang="en-US" sz="1600" spc="-1" strike="noStrike">
                <a:solidFill>
                  <a:srgbClr val="363636"/>
                </a:solidFill>
                <a:latin typeface="Arial"/>
              </a:rPr>
              <a:t>e.g. &gt; 12 months</a:t>
            </a:r>
            <a:endParaRPr b="0" lang="en-US" sz="16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4351320"/>
            <a:ext cx="2363760" cy="503280"/>
          </a:xfrm>
          <a:custGeom>
            <a:avLst/>
            <a:gdLst/>
            <a:ahLst/>
            <a:rect l="l" t="t" r="r" b="b"/>
            <a:pathLst>
              <a:path w="1637" h="360">
                <a:moveTo>
                  <a:pt x="0" y="0"/>
                </a:moveTo>
                <a:cubicBezTo>
                  <a:pt x="0" y="20"/>
                  <a:pt x="0" y="39"/>
                  <a:pt x="0" y="59"/>
                </a:cubicBezTo>
                <a:lnTo>
                  <a:pt x="5" y="360"/>
                </a:lnTo>
                <a:lnTo>
                  <a:pt x="1637" y="360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1632960" y="2805120"/>
            <a:ext cx="2361960" cy="503280"/>
          </a:xfrm>
          <a:custGeom>
            <a:avLst/>
            <a:gdLst/>
            <a:ahLst/>
            <a:rect l="l" t="t" r="r" b="b"/>
            <a:pathLst>
              <a:path w="1637" h="360">
                <a:moveTo>
                  <a:pt x="0" y="0"/>
                </a:moveTo>
                <a:cubicBezTo>
                  <a:pt x="0" y="20"/>
                  <a:pt x="0" y="39"/>
                  <a:pt x="0" y="59"/>
                </a:cubicBezTo>
                <a:lnTo>
                  <a:pt x="5" y="360"/>
                </a:lnTo>
                <a:lnTo>
                  <a:pt x="1637" y="360"/>
                </a:lnTo>
              </a:path>
            </a:pathLst>
          </a:custGeom>
          <a:noFill/>
          <a:ln w="5724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48040" y="3021120"/>
            <a:ext cx="117972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800" spc="-1" strike="noStrike">
                <a:solidFill>
                  <a:srgbClr val="363636"/>
                </a:solidFill>
                <a:latin typeface="Arial"/>
              </a:rPr>
              <a:t>Promote</a:t>
            </a:r>
            <a:endParaRPr b="0" lang="en-US" sz="1800" spc="-1" strike="noStrike">
              <a:solidFill>
                <a:srgbClr val="36363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i="1" lang="en-US" sz="1600" spc="-1" strike="noStrike">
                <a:solidFill>
                  <a:srgbClr val="363636"/>
                </a:solidFill>
                <a:latin typeface="Arial"/>
              </a:rPr>
              <a:t>on demand</a:t>
            </a:r>
            <a:endParaRPr b="0" lang="en-US" sz="16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03720" y="3546360"/>
            <a:ext cx="117972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800" spc="-1" strike="noStrike">
                <a:solidFill>
                  <a:srgbClr val="363636"/>
                </a:solidFill>
                <a:latin typeface="Arial"/>
              </a:rPr>
              <a:t>Promote</a:t>
            </a:r>
            <a:endParaRPr b="0" lang="en-US" sz="1800" spc="-1" strike="noStrike">
              <a:solidFill>
                <a:srgbClr val="36363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i="1" lang="en-US" sz="1600" spc="-1" strike="noStrike">
                <a:solidFill>
                  <a:srgbClr val="363636"/>
                </a:solidFill>
                <a:latin typeface="Arial"/>
              </a:rPr>
              <a:t>on demand</a:t>
            </a:r>
            <a:endParaRPr b="0" lang="en-US" sz="16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184920" y="1371600"/>
            <a:ext cx="2457000" cy="14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363636"/>
                </a:solidFill>
                <a:latin typeface="Arial"/>
              </a:rPr>
              <a:t>Nearline Disk</a:t>
            </a: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363636"/>
                </a:solidFill>
                <a:latin typeface="Arial"/>
              </a:rPr>
              <a:t>High Capacity, Low cost, </a:t>
            </a:r>
            <a:endParaRPr b="0" lang="en-US" sz="1600" spc="-1" strike="noStrike">
              <a:solidFill>
                <a:srgbClr val="36363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363636"/>
                </a:solidFill>
                <a:latin typeface="Arial"/>
              </a:rPr>
              <a:t>Lower performance</a:t>
            </a:r>
            <a:br>
              <a:rPr sz="1600"/>
            </a:br>
            <a:r>
              <a:rPr b="0" lang="en-US" sz="1600" spc="-1" strike="noStrike">
                <a:solidFill>
                  <a:srgbClr val="363636"/>
                </a:solidFill>
                <a:latin typeface="Arial"/>
              </a:rPr>
              <a:t>e.g. 6 to 20 hours</a:t>
            </a:r>
            <a:br>
              <a:rPr sz="1600"/>
            </a:br>
            <a:r>
              <a:rPr b="0" lang="en-US" sz="1600" spc="-1" strike="noStrike">
                <a:solidFill>
                  <a:srgbClr val="363636"/>
                </a:solidFill>
                <a:latin typeface="Arial"/>
              </a:rPr>
              <a:t>this years projects</a:t>
            </a:r>
            <a:endParaRPr b="0" lang="en-US" sz="16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000200" y="2895480"/>
            <a:ext cx="1993680" cy="11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363636"/>
                </a:solidFill>
                <a:latin typeface="Arial"/>
              </a:rPr>
              <a:t>Tape Library</a:t>
            </a: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363636"/>
                </a:solidFill>
                <a:latin typeface="Arial"/>
              </a:rPr>
              <a:t>Archive</a:t>
            </a:r>
            <a:endParaRPr b="0" lang="en-US" sz="1600" spc="-1" strike="noStrike">
              <a:solidFill>
                <a:srgbClr val="36363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363636"/>
                </a:solidFill>
                <a:latin typeface="Arial"/>
              </a:rPr>
              <a:t>e.g. hundreds to</a:t>
            </a:r>
            <a:br>
              <a:rPr sz="1600"/>
            </a:br>
            <a:r>
              <a:rPr b="0" lang="en-US" sz="1600" spc="-1" strike="noStrike">
                <a:solidFill>
                  <a:srgbClr val="363636"/>
                </a:solidFill>
                <a:latin typeface="Arial"/>
              </a:rPr>
              <a:t>thousands of hours</a:t>
            </a:r>
            <a:endParaRPr b="0" lang="en-US" sz="16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 rot="5400000">
            <a:off x="7515000" y="4641840"/>
            <a:ext cx="881280" cy="519120"/>
          </a:xfrm>
          <a:custGeom>
            <a:avLst/>
            <a:gdLst/>
            <a:ahLst/>
            <a:rect l="l" t="t" r="r" b="b"/>
            <a:pathLst>
              <a:path w="1637" h="360">
                <a:moveTo>
                  <a:pt x="0" y="0"/>
                </a:moveTo>
                <a:cubicBezTo>
                  <a:pt x="0" y="20"/>
                  <a:pt x="0" y="39"/>
                  <a:pt x="0" y="59"/>
                </a:cubicBezTo>
                <a:lnTo>
                  <a:pt x="5" y="360"/>
                </a:lnTo>
                <a:lnTo>
                  <a:pt x="1637" y="360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6934320" y="4003560"/>
            <a:ext cx="839520" cy="18147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638360" y="2971800"/>
            <a:ext cx="5295960" cy="990720"/>
          </a:xfrm>
          <a:custGeom>
            <a:avLst/>
            <a:gdLst/>
            <a:ahLst/>
            <a:rect l="l" t="t" r="r" b="b"/>
            <a:pathLst>
              <a:path w="3240" h="576">
                <a:moveTo>
                  <a:pt x="3240" y="576"/>
                </a:moveTo>
                <a:lnTo>
                  <a:pt x="1880" y="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36018-03A8-4DB2-917E-646F29A35ED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 DMAPI Mount Option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Options must be used toge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dm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Enable the DMAPI event callou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xdsm and dmi options are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tpt=mount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The mountpoint specified here will be included in the DMAPI mount event, and should be the path of the actual mountpoint that is us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gt; grep dmapi /etc/fst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dev/sdb1 /mnt/scratch1 xfs dmapi,mtpt=/mnt/scratch1,defaults 0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gt; mou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dev/sdb1 on /mnt/scratch1 type xfs (rw,dmapi,mtpt=/mnt/scratch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4FD08-B35A-4F63-93E4-B5027EC5E57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What if there is no DMAPI module?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mount -o logdev=/dev/sdb,dmapi,mtpt=/mnt/data /dev/sdd /mnt/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ount: wrong fs type, bad option, bad superblock on /dev/sdd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issing codepage or other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 some cases useful info is found in syslog - 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mesg | tail  or 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dmesg | tail | grep dmap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XFS: unknown mount option [dmapi]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Check that DMAPI is probed on boot and loa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SLES10 set DMAPI_PROBE to yes in /etc/sysconfig/sysct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Without rebooting XFS with load dmapi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# echo 1 &gt; /proc/sys/fs/xfs/probe_dmap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# lsmod | grep dmap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xfs_dmapi              22936  1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mapi                  39728  1 xfs_dmapi,[permanen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xfs                   479796  4 xfs_dmapi,xfs_quo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2C305-174C-4203-B0C8-E36CEB10B6C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DMAPI Implementation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ot all DMAPI interfaces used by SGI’s HSM 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any of the bugs recently fixed in DMAPI did not impact SGI’s HS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ome DMAPI interfaces are not implemented by X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aintaining 2.4/2.6 compatible code makes it difficul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Plan is to remove 2.4 support from this code ba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DMAPI requires two kernel changes that are not in mai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prot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open_ex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433D8-76D4-4070-A0BD-559AB96EC04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DMAPI Librarie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gt; rpm -qpl dmapi-2.2.3-12.2.ia64.r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lib/libdm.so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lib/libdm.so.0.0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usr/share/doc/packages/dm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usr/share/doc/packages/dmapi/CHANGES.g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usr/share/doc/packages/dmapi/COP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usr/share/doc/packages/dmapi/PO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usr/share/doc/packages/dmapi/READ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AE8D9-0229-4F81-ACC4-B897E566EA4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DMAPI Development Packag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gt; rpm -qpl dmapi-devel-2.2.3-12.2.ia64.r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lib/libdm.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usr/include/xfs/dmapi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usr/lib/libdm.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usr/lib/libdm.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usr/lib/libdm.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usr/share/man/man3/dmapi.3.g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5CCE5-5E32-4A7F-BC81-5EEBDACFB45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DMAPI Kernel Module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gt; rpm -qpl kernel-default-2.6.16.21-0.8.ia64.rpm | grep dm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lib/modules/2.6.16.21-0.8-default/kernel/fs/dm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lib/modules/2.6.16.21-0.8-default/kernel/fs/dmapi/dmapi.k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Filesystem independent mo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lib/modules/2.6.16.21-0.8-default/kernel/fs/xfs/dm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lib/modules/2.6.16.21-0.8-default/kernel/fs/xfs/dmapi/xfs_dmapi.k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XFS dependent mo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3868D-D17A-4278-BEA0-ED2FC586943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DMAPI Triag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D8CEC-E946-4BE3-A42B-65FFC648B54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4813200" cy="384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4655E-257E-4AAF-B656-E705C314F134}" type="slidenum">
              <a:t>3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HSM Economic Benefi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84200" y="5452920"/>
            <a:ext cx="5459400" cy="366840"/>
          </a:xfrm>
          <a:prstGeom prst="rect">
            <a:avLst/>
          </a:prstGeom>
          <a:solidFill>
            <a:srgbClr val="36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649920" y="4790520"/>
            <a:ext cx="1247760" cy="4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3636"/>
                </a:solidFill>
                <a:latin typeface="Arial Narrow"/>
              </a:rPr>
              <a:t>Tape Library</a:t>
            </a:r>
            <a:endParaRPr b="0" lang="en-US" sz="1600" spc="-1" strike="noStrike">
              <a:solidFill>
                <a:srgbClr val="36363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3636"/>
                </a:solidFill>
                <a:latin typeface="Arial Narrow"/>
              </a:rPr>
              <a:t>30TB</a:t>
            </a:r>
            <a:endParaRPr b="0" lang="en-US" sz="16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553080" y="2369520"/>
            <a:ext cx="1379520" cy="4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3636"/>
                </a:solidFill>
                <a:latin typeface="Arial Narrow"/>
              </a:rPr>
              <a:t>High-Perf. Disk</a:t>
            </a:r>
            <a:endParaRPr b="0" lang="en-US" sz="1600" spc="-1" strike="noStrike">
              <a:solidFill>
                <a:srgbClr val="36363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3636"/>
                </a:solidFill>
                <a:latin typeface="Arial Narrow"/>
              </a:rPr>
              <a:t>2TB</a:t>
            </a:r>
            <a:endParaRPr b="0" lang="en-US" sz="16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7966080" y="3421080"/>
            <a:ext cx="444600" cy="10573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6927840" y="3487680"/>
            <a:ext cx="1038240" cy="6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3636"/>
                </a:solidFill>
                <a:latin typeface="Arial Narrow"/>
              </a:rPr>
              <a:t>Low Cost Disk</a:t>
            </a:r>
            <a:endParaRPr b="0" lang="en-US" sz="1600" spc="-1" strike="noStrike">
              <a:solidFill>
                <a:srgbClr val="36363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3636"/>
                </a:solidFill>
                <a:latin typeface="Arial Narrow"/>
              </a:rPr>
              <a:t>6TB</a:t>
            </a:r>
            <a:endParaRPr b="0" lang="en-US" sz="16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30200" y="3852720"/>
            <a:ext cx="612288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363636"/>
                </a:solidFill>
                <a:uFillTx/>
                <a:latin typeface="Arial Narrow"/>
              </a:rPr>
              <a:t>System</a:t>
            </a:r>
            <a:r>
              <a:rPr b="1" lang="en-US" sz="2200" spc="-1" strike="noStrike" u="sng">
                <a:solidFill>
                  <a:srgbClr val="363636"/>
                </a:solidFill>
                <a:uFillTx/>
                <a:latin typeface="Arial Narrow"/>
              </a:rPr>
              <a:t>	</a:t>
            </a:r>
            <a:r>
              <a:rPr b="1" lang="en-US" sz="2200" spc="-1" strike="noStrike" u="sng">
                <a:solidFill>
                  <a:srgbClr val="363636"/>
                </a:solidFill>
                <a:uFillTx/>
                <a:latin typeface="Arial Narrow"/>
              </a:rPr>
              <a:t>	</a:t>
            </a:r>
            <a:r>
              <a:rPr b="1" lang="en-US" sz="2200" spc="-1" strike="noStrike" u="sng">
                <a:solidFill>
                  <a:srgbClr val="363636"/>
                </a:solidFill>
                <a:uFillTx/>
                <a:latin typeface="Arial Narrow"/>
              </a:rPr>
              <a:t>c/MB</a:t>
            </a:r>
            <a:r>
              <a:rPr b="1" lang="en-US" sz="2200" spc="-1" strike="noStrike" u="sng">
                <a:solidFill>
                  <a:srgbClr val="363636"/>
                </a:solidFill>
                <a:uFillTx/>
                <a:latin typeface="Arial Narrow"/>
              </a:rPr>
              <a:t>	</a:t>
            </a:r>
            <a:r>
              <a:rPr b="1" lang="en-US" sz="2200" spc="-1" strike="noStrike" u="sng">
                <a:solidFill>
                  <a:srgbClr val="363636"/>
                </a:solidFill>
                <a:uFillTx/>
                <a:latin typeface="Arial Narrow"/>
              </a:rPr>
              <a:t>w/o DMF</a:t>
            </a:r>
            <a:r>
              <a:rPr b="1" lang="en-US" sz="2200" spc="-1" strike="noStrike" u="sng">
                <a:solidFill>
                  <a:srgbClr val="363636"/>
                </a:solidFill>
                <a:uFillTx/>
                <a:latin typeface="Arial Narrow"/>
              </a:rPr>
              <a:t>	</a:t>
            </a:r>
            <a:r>
              <a:rPr b="1" lang="en-US" sz="2200" spc="-1" strike="noStrike" u="sng">
                <a:solidFill>
                  <a:srgbClr val="363636"/>
                </a:solidFill>
                <a:uFillTx/>
                <a:latin typeface="Arial Narrow"/>
              </a:rPr>
              <a:t>With DMF</a:t>
            </a:r>
            <a:endParaRPr b="0" lang="en-US" sz="2200" spc="-1" strike="noStrike">
              <a:solidFill>
                <a:srgbClr val="36363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High-Perf. Disk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  4c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$900K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$80K</a:t>
            </a:r>
            <a:endParaRPr b="0" lang="en-US" sz="1800" spc="-1" strike="noStrike">
              <a:solidFill>
                <a:srgbClr val="36363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Low Cost Disk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  0.8c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    -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$50K</a:t>
            </a:r>
            <a:endParaRPr b="0" lang="en-US" sz="1800" spc="-1" strike="noStrike">
              <a:solidFill>
                <a:srgbClr val="36363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Tape Library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  0.37c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    -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$110K</a:t>
            </a:r>
            <a:br>
              <a:rPr sz="1800"/>
            </a:b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DMF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    -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$110K</a:t>
            </a:r>
            <a:endParaRPr b="0" lang="en-US" sz="1800" spc="-1" strike="noStrike">
              <a:solidFill>
                <a:srgbClr val="36363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otal Investment</a:t>
            </a: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$900K</a:t>
            </a: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$350K</a:t>
            </a:r>
            <a:endParaRPr b="0" lang="en-US" sz="18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4000" y="1484640"/>
            <a:ext cx="4641840" cy="10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363636"/>
                </a:solidFill>
                <a:uFillTx/>
                <a:latin typeface="Arial Narrow"/>
              </a:rPr>
              <a:t>Example Environment</a:t>
            </a:r>
            <a:endParaRPr b="0" lang="en-US" sz="2200" spc="-1" strike="noStrike">
              <a:solidFill>
                <a:srgbClr val="36363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2TB data less than 30 days old</a:t>
            </a:r>
            <a:endParaRPr b="0" lang="en-US" sz="1800" spc="-1" strike="noStrike">
              <a:solidFill>
                <a:srgbClr val="36363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6TB data between 30 days and one year old</a:t>
            </a:r>
            <a:endParaRPr b="0" lang="en-US" sz="1800" spc="-1" strike="noStrike">
              <a:solidFill>
                <a:srgbClr val="36363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30TB data over one year old</a:t>
            </a:r>
            <a:endParaRPr b="0" lang="en-US" sz="18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370400" y="2369520"/>
            <a:ext cx="1379520" cy="4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3636"/>
                </a:solidFill>
                <a:latin typeface="Arial Narrow"/>
              </a:rPr>
              <a:t>High-Perf. Disk</a:t>
            </a:r>
            <a:endParaRPr b="0" lang="en-US" sz="1600" spc="-1" strike="noStrike">
              <a:solidFill>
                <a:srgbClr val="36363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3636"/>
                </a:solidFill>
                <a:latin typeface="Arial Narrow"/>
              </a:rPr>
              <a:t>30TB</a:t>
            </a:r>
            <a:endParaRPr b="0" lang="en-US" sz="16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56200" y="1464120"/>
            <a:ext cx="1751040" cy="3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363636"/>
                </a:solidFill>
                <a:uFillTx/>
                <a:latin typeface="Arial Narrow"/>
              </a:rPr>
              <a:t>Without HSM</a:t>
            </a:r>
            <a:endParaRPr b="0" lang="en-US" sz="22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73800" y="1464120"/>
            <a:ext cx="1524240" cy="3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363636"/>
                </a:solidFill>
                <a:uFillTx/>
                <a:latin typeface="Arial Narrow"/>
              </a:rPr>
              <a:t>With HSM</a:t>
            </a:r>
            <a:endParaRPr b="0" lang="en-US" sz="22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5676840" y="1914480"/>
            <a:ext cx="554040" cy="12002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7904160" y="1936800"/>
            <a:ext cx="554040" cy="12002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>
            <a:lum bright="12000"/>
          </a:blip>
          <a:stretch/>
        </p:blipFill>
        <p:spPr>
          <a:xfrm>
            <a:off x="8001000" y="4664160"/>
            <a:ext cx="452520" cy="976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4DF12-AA71-426B-8C16-3379B9457D5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What do HSMs need?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be notified of accesses/changes to a file's metad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be able to accept or reject such accesses and chang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have user processes block until the change has been approv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be able to access a file without knowing a pathna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be notified of changes to a file's metad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be able to read and change the contents of a file without block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save HSM-specific information persistently with a fi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scan all files in a filesystem quick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be notified when filesystems become fu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5160E-B01F-4A0C-BC87-270676CBB6A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DMAPI Standard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API Versions 2.1 and 2.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/Open Data Storage Management API (XDSM) - 2/9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a rigorous standar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~70 function ca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~40 struc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 ev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 available free in HTML format from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opengroup.org/pubs/catalog/c429.ht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ex Miroshnichenko’s paper from AUUG 1996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csu.edu.au/special/auugwww96/proceedings/alex/alex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BB373-251F-4512-9ECC-5E0A5EABC58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Handle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 file access without pathnam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imilar to NFS file hand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handle is an opaque persistent identifier which is unique per h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ould not change for the life of the ob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dles are represented as variable length byte stre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id* and size_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existence of a valid handle does not guarantee existence of the object referenced by i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only way to guarantee the existence of the object referred to by a handle is to either obtain a right or hold on the obj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 handle typ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lobal handle - (used only in mount request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esystem handle - (fsid has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e handle - (fsid hash/fid_t structure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E260B-2A0C-4ABD-9960-F0292924A4C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Handles - DMAPI Function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_path_to_hand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file handle from pathnam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_fd_to_hand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file handle from file descript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_path_to_fshand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filesystem handle from file descript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_handle_to_fshand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ract the filesystem handle from a file hand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_handle_c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le handle comparis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_handle_is_val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if a handle is vali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_handle_ha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sh contents of a hand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_handle_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storage allocated to a hand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_handle_to_pa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t a pathname from two handl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567D2-9B21-49D5-A293-F08C67F79A6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DMAPI Events and Token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ts are messages from the kernel to a DMAPI appl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notification of accesses/changes to a file or filesyst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a synchronous event is generated, the user process is suspended in the kernel until a DMAPI application issues an explicit response to the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token is a reference to the kernel state associated with a synchronous ev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ynchronous events are for notification purpose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y indicate a completion (or failure) of certain opera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Do not block user 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contain handles, directory name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709F2-E0FB-4023-AB9F-73D9770427F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10:54:15Z</dcterms:created>
  <dc:creator>David Chatterton</dc:creator>
  <dc:description/>
  <dc:language>en-US</dc:language>
  <cp:lastModifiedBy>chatz</cp:lastModifiedBy>
  <dcterms:modified xsi:type="dcterms:W3CDTF">2006-10-30T21:56:58Z</dcterms:modified>
  <cp:revision>335</cp:revision>
  <dc:subject/>
  <dc:title>Possible CXFS Administration and Monitoring Interfaces</dc:title>
</cp:coreProperties>
</file>