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F8B4-1986-4C54-BC5C-94DADD65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CEBA-E09A-4A83-AF43-C5A48B73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0053-7DE6-4EE2-A435-7EBBC052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26A5-4F60-4509-B743-6B179A83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8182-0334-4976-959C-7FEF9B7B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987F-6FA7-46D1-822F-3B44A903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CCB6-FE48-4BDF-B9E1-F4A087CB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D90B-6F8D-4EE0-9501-45606FA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921E-B924-4201-94F2-53AB4CE8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12F0-3A86-4322-B7F3-8BE589E6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6885-AFA2-44C2-BC60-9896818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ABED-6FF6-41C3-96F3-766BEC8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9DAF502-E3D6-4802-BDCF-6526F3CFE447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6 - Volume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and Volume Manag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 with md, device mapper, software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734A-F11C-44A5-BF8B-54052EA736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652E-E5E0-45AE-BC79-40DAF4DBAD9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7:40Z</dcterms:modified>
  <cp:revision>331</cp:revision>
  <dc:subject/>
  <dc:title>Possible CXFS Administration and Monitoring Interfaces</dc:title>
</cp:coreProperties>
</file>