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CF1AB-5B47-428E-A4AF-3421188C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1A83F-2362-4ADF-8075-5BCBF8DE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798F-2866-4DC2-A3A8-6CB6AB48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4B26-2F8B-4504-80D5-2D6611C5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07AE-56B6-4D84-ACD0-29AADB89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4133C-8451-4937-8A84-E3AE4A08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86837-08A1-4650-A43D-79A20048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AD738-45C2-4735-93BD-D8CD5911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52864-85C4-4E78-AE74-07BA5356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C6CD-65B0-4451-ACD4-0E720498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4065-FE0A-4189-8973-CD84EB2E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25BB5-EAE6-4ECA-AB67-C1384AA2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EC750FEC-589B-4901-A5D3-208B72E43093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ss.sgi.com/projects/xfs/users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oss.sgi.com/cgi-bin/cvsweb.cgi/linux-2.6-xfs/" TargetMode="External"/><Relationship Id="rId2" Type="http://schemas.openxmlformats.org/officeDocument/2006/relationships/hyperlink" Target="http://oss.sgi.com/cgi-bin/cvsweb.cgi/linux-2.4-xfs/" TargetMode="External"/><Relationship Id="rId3" Type="http://schemas.openxmlformats.org/officeDocument/2006/relationships/hyperlink" Target="ftp://oss.sgi.com/projects/xfs/download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ss.sgi.com/cgi-bin/cvsweb.cgi/xfs-cmds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1 - Back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o is using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projects/xfs/use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ist is out of date but it gives an indication of the spread of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s included in a number of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port agreement with Novell for SLES dis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6BA6-74DA-487F-8876-1B672A81C1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– linux/fs/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p of tree (tot) XFS on oss.sg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anges appear here shortly after they are checked in 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VS tree on oss.sgi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cgi-bin/cvsweb.cgi/linux-2.6-xf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oss.sgi.com/cgi-bin/cvsweb.cgi/linux-2.4-xf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ftp://oss.sgi.com/projects/xfs/down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anges routinely pushed to 2.6 mainline kernel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t://oss.sgi.com:8090/xfs/xfs-2.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intenance only for 2.4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SE major releases and service p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 close to top of tree as possible at the time of the code 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ifferences between tot, SuSE and mainline kernels highlighted in course n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F0B9-01C7-49EF-9A30-EF0CEE9DA7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– xfs-cm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large amount of common code between kernel and user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 is how xfs_repair understands the on-disk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er-space commands in a different cod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cgi-bin/cvsweb.cgi/xfs-cmd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 includes test framework under xfs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ckag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p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progs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E21FA-0F0B-4FE1-B84E-84798D0945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- dmapi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has not been accepted into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nlikely to be accepted without a complete re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tot distribution on oss.sgi.com includes 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anges we make to DMAPI will immediately appear in the CVS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FCB58-2832-4596-9415-8EB279ECB7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RIX vs Linux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V1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block size &lt;= PAGE_SIZE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case insensitive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64 bit inode numbers on 32 bit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 need XFS changes once generic change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es not support filestreams allo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velopment in progress (Oct 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&gt;512 byte sector si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 RAI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writ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“noikeep”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30366-2251-4D7C-B52E-BF2F35B3BB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Ongoing Develop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Architectu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mits and reviews designs for adding new features, or enhancing existing features, targeting one or mor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Triage R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gineer rostered for one week to triage incoming bug reports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maining time devoted to developing features and fixing 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C1C1-BEC0-4D19-A509-660EF069A5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250FB-7CBB-4A7F-83A9-46CE47C1BB7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urse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Brief History of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ing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unt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Architecture &amp;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 and Directory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n-disk Form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pporting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pair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Tri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late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acku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olume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0DCA-A220-4CF2-A740-C8628B5ED9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Course Objectiv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the end of this course you will be abl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e and mount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nderstand how 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es and manages 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es extents to files and manages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rovides 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racks filesystem 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ackup and restore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cover and repair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terpret on-disk and in-core XFS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A41BC-6BDD-4630-861A-E1EB95E315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1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608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ackground and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ing File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unting File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200" y="1461600"/>
            <a:ext cx="41608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ing and Mounting X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AC016-5266-4EA3-8F73-56E1286891CD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Architecture and Inter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On Disk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E7B1C-CA73-4EE6-8C0F-084DC59F0A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3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 &amp; 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pair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Tri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5152-0855-4117-83BC-C480887604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4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um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and Volume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um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758B-D04E-4218-AEE2-A3E5C2B36E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A Brief History of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iginal design was circulated within SGI in October 199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FS: the extension of 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x" for to-be-determined (but the name stuc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filesystems: one terabyte, 2^^40, on 32 bit systems; unlimited on 64 bit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files: one terabyte, 2^^40, on 32 bit systems; 2^^63 on 64 bit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number of in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directo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I/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access to in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anced tree (btree) algorithms for searching large lis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ynchronous metadata transaction logging for quick reco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ayed allocation to improve data contigu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L's --Access Control Lists (see chacl(1), acl(4), acl_get_file(3c), acl_set_file(3c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released in IRIX 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221B-E473-4FFA-8C55-7B4C22BAB1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on Linux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rt to Linux began in 1999 against 2.3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pted into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.5 kernel (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.4 kernel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LES9 and bey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 XFS engineering is now based in SGI’s Melbourne, Australia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ordinate changes to Novell via John Hesterberg’s group in Ea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umber of contributors in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y (but not all) are ex-SGI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06E3-20CB-48CC-B365-80152B75CA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3:32Z</dcterms:modified>
  <cp:revision>337</cp:revision>
  <dc:subject/>
  <dc:title>Possible CXFS Administration and Monitoring Interfaces</dc:title>
</cp:coreProperties>
</file>