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22B4-96CE-4359-B095-B9644474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BB03-D9E3-43FB-8D66-F5322DFF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1261-267D-4434-AF10-65852E97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764F-F5E8-44B8-B889-43886B26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FD07-E90E-4156-A698-F77D3214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CAC0-8348-493F-A2D0-5CA85D77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B9BB-D5EA-4392-97ED-C71642D4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612DD-8B40-4BF2-AB0B-6B5D0348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576E-8B00-4089-BDBB-1BDA0A68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5B13-6DF1-4F59-8FB5-470173F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3D1D-AE37-4E47-9491-59DA86B4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F800-531B-4D63-9585-19746D39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16016B0E-5C78-40CD-9567-B128CF939D4E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2 -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has three inod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ndisk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ed for storing the metadata for all files, directories and other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y default 256 bytes but can be up to 2K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nux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Linux and XFS inodes have different lifecycles, which can caus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8BD3-F51E-4B4C-8559-72385506A5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irectory and File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9440" y="1359000"/>
            <a:ext cx="8383680" cy="41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6922-AD4E-4A97-B9C4-FD3864DFC8E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Jou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3BC7-BDCC-48EF-A32F-C18FE79082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D5B5-54BB-4EE4-9F46-EF76A995215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gives an overview of the structure of an XFS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detailed examination of the filesystem structure is covered later in th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142E-17FC-48EC-A61D-7F8DA01604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Grou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XFS filesystem is divided evenly into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allocation group can be from 16MB to 1TB i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ach allocation group inc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 block information about the entir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ee space management (within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allocation and tracking (with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 clusters within an allocation group are created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kfs.xfs does not pre-create inodes throughout th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BDA5-17EE-48F7-A5DD-5FFE167A1E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22160" y="963720"/>
            <a:ext cx="7697880" cy="49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AE3A-C588-4137-9801-CA9F9BE865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0960" y="0"/>
            <a:ext cx="4883040" cy="60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CB83-D5D5-45A5-A963-C5365FF684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Limi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2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1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4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9 Million TB = 9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18 Million TB = 18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46A42-385C-436C-803F-AD4D80BD13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ystem Block Size (FSB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ystem blocks (FSBs) are the unit of space for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blocks are comprised of one or more device-level sec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age management implementation in Linux limits the FSB size to th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4KB on ia32 and x86_64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6KB on ia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BD on powe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formance can improve with different block sizes depending on the size of I/O requests and the size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arger blocks will also use more disk space for small (&lt;1FSB)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6E9EF-40E6-44B0-A6C7-D8AE74CCA6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extent is a set of one or more contiguous FSBs that define a region in the filesystem for file data or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single extent can be up to 8GB in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e’s inode lists the extents associated with tha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or very large files, the file’s inode may have thousands of extents, or one very large extent. Usually something in betw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tents are also used for file and directory metadata when the information exceeds the space reserved for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28A3-69EB-44B5-825D-357116A76A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Unwritten 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FA2B-51B7-4460-A780-CDFEA91A98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4:39Z</dcterms:modified>
  <cp:revision>337</cp:revision>
  <dc:subject/>
  <dc:title>Possible CXFS Administration and Monitoring Interfaces</dc:title>
</cp:coreProperties>
</file>