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D623-98F8-414B-8B14-232D6016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C73E-0BC2-498E-B27A-70F5216D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7EFD-E3CB-453B-9453-5B643FC1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ADEF-AF06-4C34-B490-FEF7E394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461D-99E1-4778-A509-9C939CA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CC60-933E-43D2-ADD7-E0D73BA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A81E-EE98-4A0B-8E5F-F6DB1421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09E9-B528-4EFB-BA60-253A47C0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EEE7-235E-424C-B5EC-8F884D79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67D3-75A1-4EAD-A5C3-2E3A172D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5A9F-7A8B-488A-B2B6-851B7C07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966A-F04E-4DA8-8228-C62193E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BFF7EC3-E3FF-437D-B608-F434E0378D9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faq.html#wcache" TargetMode="External"/><Relationship Id="rId2" Type="http://schemas.openxmlformats.org/officeDocument/2006/relationships/hyperlink" Target="http://oss.sgi.com/projects/xfs/faq.html#wcach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5 - M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User/Group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C294-E46E-4450-8AAF-1B0FFAB8DA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Project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6299-B758-40F3-A3F1-5C34B51E0F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inf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E727-6E70-401B-80E7-0C88C68768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B971-72FA-4A1C-AA16-7E613E4F9C6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un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 some XFS-specific mount options and how they affect the behaviour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A356-090C-4CA8-8F9D-58B2984B7F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ux tre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ation/filesystems/xf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/fs/xfs_vfsops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options are specific to XF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ommon Linux mount options does XFS not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F904-7CFC-494A-AB0F-55618E3A74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Log &amp; Realtime Devi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2072-0902-4391-993F-277C9D7E2C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default XFS uses 32bit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’s number roughly equates to its location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bination of allocation group, cluster and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on Linux is 32bit on 32bi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y change in future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place 32bit inodes in the first tera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ing a larger inode size means less inodes per cluster allowing 32bit inodes to be located beyond the first te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ode6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ption on 64bit machines allows inodes to span the entir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try to put file extents in same allocation group as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all backup tools support 64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ode number used to identify file between bac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71F1-0FF5-4B4E-9F59-1C3E4FB1A5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Allocator Hi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7ED0-F2ED-4F57-ACCB-2C0444D73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Stri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CDE9-D531-4F8D-9B83-DF4FC7ADE6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543D-E455-4EF5-BECD-4A29830C3B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Barri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cache on disk can result in filesystem corruption since XFS is told the log transaction has reached the disk when in fact it is still in the disk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journal log assumes that the log transaction is updated on disk before the metadata is updated, but this may not be true with writ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able to issue write barriers if the device suppo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sures that the log entry is written before any o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barriers are enabled by default in SLE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will attempt to determine is barriers are supported and will issue a warning if they are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obarri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option disables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projects/xfs/faq.html#w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F2FE-7906-499C-8F97-B7F32D908B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7:00Z</dcterms:modified>
  <cp:revision>333</cp:revision>
  <dc:subject/>
  <dc:title>Possible CXFS Administration and Monitoring Interfaces</dc:title>
</cp:coreProperties>
</file>