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6"/>
          </p:nvPr>
        </p:nvSpPr>
        <p:spPr>
          <a:xfrm>
            <a:off x="3852360" y="-360"/>
            <a:ext cx="2930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28440" y="739440"/>
            <a:ext cx="492588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120" y="4690800"/>
            <a:ext cx="4970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3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8"/>
          </p:nvPr>
        </p:nvSpPr>
        <p:spPr>
          <a:xfrm>
            <a:off x="3852360" y="9380160"/>
            <a:ext cx="2930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3BDD7-FDA8-4F1B-B6A6-CFFDF6CDCD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302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2880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302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Deeply hooked into XFS. Block level, not byte. 64bit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for each i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Enforcement of quotas is optional. We can track usage to 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t don't have to enforce that (qnoenforce mount option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Generic commands do not scale to the size of xfs filesystem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y do work with XF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Other filesystems use a file to record and track quotas,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embeds this information into internal data structures in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ked in the super block. So quota operations in XFS are journa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* Nathan has a patch for quotas for realtime. The dquot is 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o differentiate and you could set different quotas for meta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nd realtime dat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Project quotas was commented out of IRIX for a while, whe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ux quotas was done the project quota was used to imp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group quotas. Hitachi then asked for group quotas on IRIX, 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Nathan's project quotas to do group quotas was back ported to IRI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XFS architecture team decided to use project quotas to do direc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evel quotas, which is an inode flag that is inheritable. N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user tools on linux understand projects, so we have xfs_quo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understands user, group and project quotas, even on realti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project quotas are specific to xfs. every xfs inode has a pro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d. inodes inherit project id. does not allow links between in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different project ids. could be used as a cheat to grow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hrink a filesyst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qflags field in sb holds 3 bits for each type (user, group, projec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ndicating if we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allocating (tracking)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enforcing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checked (on mount if this is not set but mount with quotas, go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lk stat and rebuild quotas then set this bit. bit is unset w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filesystem is not mounted with quo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b also holds two special inode numbers for the dquot fi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ux quotas in the vfs maintained by Jan Kara at Su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quota file is large and gets fragemented since it needs to deal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huge range of ids support by linux. it could preallocat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t could be a btre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F096-331E-4511-BFDD-3FA835FB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CFDB9-4665-47B8-BFBE-A1ADD024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FB9F4-AD9C-453D-9B6F-3FD91074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82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880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80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82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880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B346B-B6DC-4C08-9AEA-01A24036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326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C1A43-521F-4196-982C-BA9D2B3B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82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880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80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82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5880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481CB-BC57-4726-BF35-89819FB3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6E0AA-0F2C-4790-9810-11DFCF7C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01020-43B1-47A5-A7AE-41980DC1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326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ED4DC-711C-41C7-BA45-08B57586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6BDCF-256B-4928-A446-DCF575AC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3011A-E50B-424A-A4AE-D534C96F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7C1C-B511-48E7-B4AE-2292FDEA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144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760" y="6237360"/>
            <a:ext cx="11764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8907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AC0AE8-8CFB-4767-AFA6-2FD0DAB782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126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6640" y="2695320"/>
            <a:ext cx="54975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6160" y="5694480"/>
            <a:ext cx="18907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126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5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8 - Quotas</a:t>
            </a:r>
            <a:endParaRPr b="1" lang="en-US" sz="32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600" spc="-1" strike="noStrike">
              <a:solidFill>
                <a:srgbClr val="363636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Limits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2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s xfs_quota -x -c 'limit bsoft=1000m bhard=1200m user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s xfs_quota -x -c 'limit isoft=500 ihard=700 user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Lim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x -c 'limit -g bsoft=1000m bhard=1200m group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controlled directories are first added to /etc/projects. Project names are optionally added to /etc/projid to provide an id/name mapp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c 'project -s projectname' is run to initialize project direct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x -c 'limit -p bsoft=1000m bhard=1200m project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51B9-F8BB-4DBA-9EF5-ED1C9D2D2B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320" y="352080"/>
            <a:ext cx="84373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nabling/Disabling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can be used to temporarily or permanently disable quotas on a filesystem using the following command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ble – Temporarily disable quota enforc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– Enable quota enforcement. Used to enable quotas if they have been disabled or the filesystem was mounted with qnoenfor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 – Switch off quota management quotas can only be re-enabled by un-mounting and remounting the filesystem (Limit information is preserved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 – remove quota extents from a filesystem. All quota limits are destroy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149F2-EC48-49E0-8C32-E4ABC86BD6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5320" y="263520"/>
            <a:ext cx="844236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Advanced xfs commands (xfs_quota -x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9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also contains comma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ise the state of xfs quotas on a system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m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pulate the grace period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im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up and restore the quota information contained in a filesystem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um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to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s. These commands are also used internally by xfsd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A207B-DB99-46E9-8306-78B8870DCE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Generic Quota Tool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xfs_quota xfs also works with generic quota tools provided on Lin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tools include quota, repquota, quotactl, edquota, quotacheck, setquota, and quotaon/quotaoff (enforcement only) and quotawa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neric tools to not understand XFS project quo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866A2-247A-4DB0-A3F9-25B5A3EF0BE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Providing user feedback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systems are configured to provide a level of feedback to users if they exceed their quota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ommon method for informing users is to send email using the quotawarn command from the generic quota package. Quotawarn is often as a cron job da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can be provided for interactive users by running “xfs_quota -c quota” in  users login scripts (/etc/bash.bashrc.local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DEE88-BE2A-4811-A602-B43B6235D43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s are implemented as part of the filesystem metadata (instead of maintaining quota data in a file within filesyste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are updated in realtime as the filesystem is changed. No “quota checks” need to be r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606E-05B6-44C9-B2F4-CFD8E71875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 – Project Quotas.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quotas are implemented using the group quota inode. This excludes project and group quotas from being enabled at the same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configuration information is stored in /etc/projects and /etc/proj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-s projectname initializes the project id in inodes contained under directories specified in /etc/proj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731D9-A5F5-498C-A65C-B8E06E68C9C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 – Examin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6468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db can be used to understand the internals of the quota implemen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inodes can be seen in the filesystem super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db -xr -c sb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quotino = 1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quotino = 1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db -xr -c 'inode 131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quota entries can be viewed with xfs_db's dquot comm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dquot username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dquot -p projectname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s can be interrogated to determine which project they belong t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s -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inode 675234191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projid =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uid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gid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4B3B-EFA8-4D96-B382-E61DC9345E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elme? Quotas – Dave's Initial Slide.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nd group 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D 42 currently has X blocks &amp; Y inod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space/inodes vs dynamc b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count is file data, intimately tied to space allocator (NB: dquots are journall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(pseudo-directory) 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var/log currently has X blocks &amp; Y inodes, is limited to ..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files and dqu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(invisible) inodes in primary 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 simpl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fs_disk_dquot_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ray, ID inde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CE00-8FC0-4A5C-A0B9-17A1C80631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provide a method for managing disk resour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can be used to report on disk us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can be used to control disk us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manage filesystem resources in two w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Managing Disk Space (blo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Managing the Number of Files (ino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resources can be managed on a per user, group or directory (project) ba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B4EAA-D047-4DB2-AA80-868847F939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485640"/>
            <a:ext cx="84456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Typ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2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101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tracked or enforc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individuals or system us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grou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directories associated with a specific project. Projects may cross organizational 'group'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broader levels of control than available using user or group quo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2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to effectively shrink a file system allowing administrators to reallocate disk space as need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FE070-BB00-4427-8581-3B14701BD4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eporting Vs Enforce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monitor disk usage and optionally enforce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monitor disk usage across quota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efficient than using unix tools like du that must traverse the file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are maintained as the filesystem is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enforce limits on users, groups or proj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 us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s against rouge processes bringing down system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two types of limits. Hard and sof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FE93C-D0C1-47A1-BFB9-8624B95C47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7000"/>
              </a:lnSpc>
              <a:buClr>
                <a:srgbClr val="440099"/>
              </a:buClr>
              <a:buFont typeface="Helvetic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nforcement (Limits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types of limits; Hard and So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are advis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additional disk resources to be consumed for a period of time. this is known as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lexibility to users and processes that may occasionally need to exceed there quota tempora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 further allocation of disk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I/O that attempt to allocate further disk resources is fail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ing data on the disk is preserved and existing disk allocations can still be writ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s must remove existing files to before new resources can be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 limits are be enforced as hard limits after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are never applied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43E2A-427F-4BAE-9485-6F12E6DA4D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figuring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s are enabled as filesystem mount options when the filesystem is moun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User, Group and Project quotas are enabled independently. Group and Project quotas are incompat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Each quota type can be specified as noenforce, in this case quota reporting will be maintained but not enfor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Valid mount option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uquota, uquotanoenforce - User qu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gquota, gquotanoenforce - Group qu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pquota, pquotanoenforce - Project 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e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mount -o quota,pquota /dev/hdb1 /media/xfs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Or in fs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/dev/hdb1 /media/xfstest xfs defaults,quota,pquota 0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10FE-C946-47D7-98F0-5AE98AD74F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xfs_quo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quotas are configured the xfs_quota tool can be used to report on disk usage and set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operation is controlled by xfs_quo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has two modes of operation, basic and expert mode (xfs_quota -x). Basic mode includes commands for reporting disk usage to users. Expert mode contains advanced commands that allow the modification of the quota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BDB60-91E1-439D-AF8A-C74E291447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Report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quota -xc 'report -h' /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quota on /home (/dev/hdb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ID      Used   Soft   Hard Warn/Grac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----- ------------------------------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ot         4.6G         0      0  00 [------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user  103.4G      0      0  00 [------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report as an ordinary user simply reports that users disk usage while running as root allows the disk usage of all users to be repor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quota -xc 'report -h' /ho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m0.287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du -hs /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m3.086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50A59-B0EE-4B76-BAFD-A630AE5A7C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tz</cp:lastModifiedBy>
  <dcterms:modified xsi:type="dcterms:W3CDTF">2006-10-30T21:51:45Z</dcterms:modified>
  <cp:revision>1</cp:revision>
  <dc:subject/>
  <dc:title>Possible CXFS Administration and Monitoring Interfaces</dc:title>
</cp:coreProperties>
</file>