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89BC3-E3B3-4ADF-A5E4-0E1776F81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8DEEC-174D-4784-A933-AD2AD8A8C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9CC40-11AD-464A-A2C2-6EA494532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03A55-30DE-40FD-B86C-C0C76BD30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D7129-F56C-422F-901F-1BB754899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3FBC9-61B0-4028-BC7C-26D7CD486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63E3A-9551-41A9-B231-CE58A5A59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0D558-1E7A-4899-83DD-66104E864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2155C-1667-4CB6-BAB2-4B643C85E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9BBD5-6E8A-4BA3-A98B-7ED06A02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81568-B531-4EC4-B107-A631C8624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D09FC-42E1-4FAB-97F4-AA2511A1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12000"/>
            <a:ext cx="9144000" cy="0"/>
          </a:xfrm>
          <a:prstGeom prst="line">
            <a:avLst/>
          </a:prstGeom>
          <a:ln w="57240">
            <a:solidFill>
              <a:srgbClr val="44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13760" y="6264360"/>
            <a:ext cx="539640" cy="44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390400" y="6237360"/>
            <a:ext cx="11905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673440" y="6237360"/>
            <a:ext cx="1905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Page </a:t>
            </a:r>
            <a:fld id="{8C5B1070-0387-46FA-AC92-86DEB46A32E6}" type="slidenum">
              <a:rPr b="0" lang="en-US" sz="1000" spc="-1" strike="noStrike">
                <a:solidFill>
                  <a:srgbClr val="36363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25520" y="6199200"/>
            <a:ext cx="2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537000" y="6199200"/>
            <a:ext cx="1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323640" y="6237360"/>
            <a:ext cx="19270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13223" t="9376" r="18457" b="9336"/>
          <a:stretch/>
        </p:blipFill>
        <p:spPr>
          <a:xfrm>
            <a:off x="812880" y="1346040"/>
            <a:ext cx="3819600" cy="3872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991200" y="0"/>
            <a:ext cx="2148120" cy="6858000"/>
          </a:xfrm>
          <a:prstGeom prst="rect">
            <a:avLst/>
          </a:prstGeom>
          <a:solidFill>
            <a:srgbClr val="44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86560" y="5400720"/>
            <a:ext cx="1214640" cy="98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34800" y="423720"/>
            <a:ext cx="3962520" cy="220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47800" y="2066760"/>
            <a:ext cx="40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Arial"/>
              </a:rPr>
              <a:t>Silicon Graphics, Inc.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97000" y="2695320"/>
            <a:ext cx="551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825800" y="569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39480" y="6092640"/>
            <a:ext cx="192708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lvl="1" marL="40176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24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2695320"/>
            <a:ext cx="602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XFS Overview &amp; Internals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09 - Interna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50560" y="4743000"/>
            <a:ext cx="55753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ount Path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_fs_fill_su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cate a bhv_vfs struct 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vfs_alloca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up initial behaviour module chain, for all bhv_modules 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hv_insert_all_vfsop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se mount options 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hv_vfs_parsearg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the end of this we have the final behaviour chain – e.g. if quota is not in use, its removed itself from the chain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bhv_remove_vfsop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mount 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hv_vfs_mou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base XFS behaviour, we read the primary superblock, setup per-fs structures, does log recovery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quota behaviour, we do the quotacheck and dquot recov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98885-F8A0-42EB-9006-4814B5DA95C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B-Tre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-1440" y="1476360"/>
            <a:ext cx="9146880" cy="390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71A13-FE78-4C4B-B967-7D880C13DC4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File and Directory Operatio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C30CB-B1DF-4521-84C6-9536517F1E4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Filename Lookup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8F51D-0059-4A99-BC11-F9C0DCFF878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Creating a new fil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4CBD2-5ABA-4635-8AD0-7D00A55E188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Allocating a new inod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18115-BD8A-4FA7-8B96-72F16C825AB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Adding name to directory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CF492-9A1D-4EE5-9C96-D26B8B59DA6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Changing file attribut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54064-A5EA-4A4E-868E-F3771D943A1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Writing to a new file / Appending to an existing fil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39094-008D-4647-9F00-8740F230DC7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Reading from a fil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79592-4CC6-430D-95A0-E166512AEE1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440099"/>
                </a:solidFill>
                <a:uFillTx/>
                <a:latin typeface="Arial"/>
              </a:rPr>
              <a:t>XFS Architectur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DO: Incorporate Nathan’s stuff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0F0FA-0E95-4C32-AF1F-7FDBBD74E33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Seek and write to create a hol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ED8E3-1807-4DEC-B258-67F6FAA9FDD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Read and write to a hol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1B876-72A1-4EC8-A54E-604D2662BD8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Truncate a fil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C8482-C16D-4609-9BB9-68658D343C5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Space Allocation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_bmapi / xfs_bmap_alloc  (the root of all evil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 MAP interfa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 extent map for rea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up delayed al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 actual al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rt unwritten extents to written ex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space alloc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space B+Trees (“dat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_bmap_btall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space bitmaps (“realtime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_bmap_rtall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: stripe unit/width size/align, di_ext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96FE5-D127-4781-A7C6-0B4A2A10BD3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emory Allocation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been a source of problems on the Linux XFS port, it is much improved now, howe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IX was very good at ensuring memory allocations succeeded, XFS written on IRIX... you do the ma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 process flag added into Linux XFS zone (slab) allocation routines that make the allocator aware of memory allocations from within a transa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F8798-0612-4EAB-9E53-774E8F3577F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etadata Buffering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_buf.c and xfs_buf.h implements the XFS metadata buffer cache on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-page buff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ffer “pinning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ral “private” buffer poin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cking, iodone semaphore for I/O wai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lbacks for: iodone, relse, pre-wr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-core log buffers also implemented via xfs_buf_t and this causes some oddities in there – sub-buffer-sized I/Os, non-page-cache buffer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arate address_space from bd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F513F-EAA8-4C6A-B7B5-ED79FCB4F62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etadata I/O Completion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logd/N (per-CPU daem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reads that handle I/O completion work for iclog buff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log_state_do_callbacks – runs multiple completions, depends on what was logged inside this iclog buff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also meta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fs_buf_do_callbacks – typically, removing from AIL and freeing up buffer_item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datad/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ll cover later, in the I/O path s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me sort of idea thou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AB210-31EF-47C6-95CA-61EC9775C1E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Delayed write buffer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buf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rnel thread, one per filesystem de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lks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xfs_buftarg_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“buffer target”) hash table finding delayed write buff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ffers timestamped when queu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tweak the age at which unpinned and dirty metadata buffers will be considered for flus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proc/sys/fs/xfs/age_buffer_centise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unable daemon wakeup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proc/sys/fs/xfs/xfsbufd_centise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756EC-AAEC-40F3-82E7-29E1A6F654F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I/O Path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and write family of sysc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th buffered and direct I/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_lrw.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ode locking (i_mutex/iolock/iloc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API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ayed al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 write reserves space only, allocation at writeout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_block_t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node, iblock, buffer_head, “create” fla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 buffer_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b_state, b_blocknr, b_size, ..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5B94D-CC2E-4BEC-B6E3-3A4D5098569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sync(2)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 implements an optimisation to sync(2) of metada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 will only force the log out, such that any dirty metadata that is incore is written to the log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nl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the metadata itself is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cessarily writ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safe, since all change is ondi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 data is guaranteed too (even barrier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ze/thaw, remount,ro and unmount do guarantee both log and 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s lik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u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ve been bitten in the past, but fixed nowa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CD5B9-1485-4F7E-A541-68DBD6AD6B7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_vnodeop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VFS system call interfaces are mapped to xfs functions in </a:t>
            </a: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xfs_vnodeo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fs/xfs/xfs_vnodeops.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xfs_vnodeops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open, close, fid, read, write, sendfile, splice, fsyn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file descrip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getattr, setat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inode attributes - stat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attr_get, attr_set, attr_list, attr_remo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extended attrib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access, look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inode permissions/exist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create, remove, symlink, readl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regular files, special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readdir, mkdir, rmdir, rmdir, link, re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reclaim, release, inactive, iflush, bmap, flush_pages, flush_inval_pages, toss_p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inode / page cache state and/or life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2F9B6-F9AF-421E-9156-C0469160601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Data writeou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ggered by the VM sub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_aops.c::xfs_vm_writepage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_aops.c::xfs_page_state_conve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cache pages attached to inodes via a radix-tree (2.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ode-&gt;i_mapping and page-&gt;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 does its own writeout, sort of (due to delayed allocation and unwritten exten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lk through 2.6 writepage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ill use buffer_heads for per-fsbno 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_ioend_t - goes direct-to-bio for actual write, with &gt;1 page at a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AACA8-D439-4BE0-988D-CD4048D76A1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Transactio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p = xfs_trans_alloc(typ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 = xfs_trans_reserve(tp, data, log, rt, ...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make changes, allocate space, free space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ach superblock/inode(s)/buffers/... to transaction, logging ranges within these objects, typically, e.g. v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_trans_log_inode(tp, ip, XFS_ILOG_COR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 = xfs_trans_commit(tp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43426-F38F-439B-B578-781658E809B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116000" y="404640"/>
            <a:ext cx="7135920" cy="5311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1CCA2-7655-410D-B643-8037978D4CF4}" type="slidenum">
              <a:t>3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813200" cy="384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E72C0-97AC-4A01-AAA0-38BB8A117FCD}" type="slidenum">
              <a:t>3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do: explain important vnode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B1FF7-21E7-48EF-89B5-E956EFBEB0F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ctl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XFS specific system calls (</a:t>
            </a: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xfsctl()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) are dispatched by </a:t>
            </a: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xfs_ioctl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fs/xfs/xfs_fs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fs/xfs/linux-2.6/xfs_ioctl.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ometry, fscounts, [get|set]resblks, shutdown, freeze/tha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system level mani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ow[fs|fslog|fsr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system size (and maximum inode count) expan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get|set]xflags, fs[get|set]xattr, fs[get|set]xattra, dioinf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ode attribute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 I/O parameters (min/max/alig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ocsp, freesp, resvsp, unresv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llocation and/or preallo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lkst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(sequential) inode's attributes – stat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fsdump, quotacheck, dmap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-handle (open, fd-to-, path-to-, readlink, attrlist, attrmulti, 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ipulating inodes by “handles” (inum/igen/fs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tbmap, getbmapa, swap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ode data/attr fork extent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708FC-88F3-419E-9C70-8382BD49035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do: explain important xfsct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DFB97-6685-44DA-9ABE-7BDF9F867EA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sysctl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usr/src/linux/Documentation/fs/xfs.t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rix_symlink_mod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links get mode 0777 by defaul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rix_sgid_inheri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gid bit always inherited regardless of process g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herit_nosymlink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nt inherit symbolic lin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trict_chow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own restricted to ro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torste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mber of files in AG before rotating to next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e_quot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ad kernel module on mou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e_ioop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ad kernel module on mou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e_dmap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ad kernel moduel on mou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e_buffer_centisec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e of buffered data before flus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syncd_centisec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often xfssyncd ru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bufd_centisec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often xfsbufd ru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herit_noati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ss no accesstime tracking into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herit_nodum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ss nodump flag into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herit_nosyn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ss nosync flag into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_lev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 XFS error handling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nic_mas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 XFS panic b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5C116-1EF9-476D-80E7-D0335B5EE32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dentry-state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directory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unused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Reclaim &gt;secs when short on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1 Calling shrink_dcache_p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file-max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aximum number of files system w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file-nr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# files alloc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files in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ax number of files system w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ode-state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active i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free inode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1 # &gt; inode-max so prune inode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ode-nr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ame as inode-state first two v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79EB7-1DB3-44C4-922D-191A6641664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Behaviour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027080" y="1905120"/>
            <a:ext cx="7096320" cy="345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7C397-2C61-42F7-9B87-9370070F871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0:54:15Z</dcterms:created>
  <dc:creator>David Chatterton</dc:creator>
  <dc:description/>
  <dc:language>en-US</dc:language>
  <cp:lastModifiedBy>chatz</cp:lastModifiedBy>
  <dcterms:modified xsi:type="dcterms:W3CDTF">2006-10-30T21:52:32Z</dcterms:modified>
  <cp:revision>338</cp:revision>
  <dc:subject/>
  <dc:title>Possible CXFS Administration and Monitoring Interfaces</dc:title>
</cp:coreProperties>
</file>