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B0EB-F8FE-49F6-8584-2F5A0A74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9908-B10D-4541-BDF2-0F736727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6994-E9F5-435D-B90F-C2C978CA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1B27-83FF-4B4D-8FE4-2110604C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44F1-7DFE-4675-A8C7-4686CEA9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8444-55C3-406E-8238-13A3C430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3DFE-7826-4093-A38A-32E194B1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AA95-FB34-4202-8EFF-CF880F08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CCE6-DC7A-44C9-9E24-1A79808A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E594-D626-4265-8C82-0238E83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D270-0E20-4E4B-845B-06F3E65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6159-E3AA-4B6A-B336-F376222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F06D2481-4C87-4E8A-8812-FBCAA10EFB69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Q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17D3-67AA-422B-8376-22633FC57D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8078-0636-46CA-886C-367497A255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B794-5EAA-47AB-8362-3363852A29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6C25-EF83-4E20-842A-089A8E335C4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3:27Z</dcterms:modified>
  <cp:revision>338</cp:revision>
  <dc:subject/>
  <dc:title>Possible CXFS Administration and Monitoring Interfaces</dc:title>
</cp:coreProperties>
</file>