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01BE-8508-4677-94DC-31B5FAE5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6812-059B-4B2C-B235-0736335B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B226-660B-4F9C-A042-0769B728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983B-D32B-4568-84C3-875ED4B1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F07A-6163-4E8E-BD9D-A1034133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B46B-2B78-4D5D-8BD9-32543E62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2861-31D7-471E-9642-C30F3DFF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D0F6-FCF2-4644-A5C1-C010AF7C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BC58-E281-4B27-B35C-E703A528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FDAC-9053-438E-B609-E0ECFA4E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F53C-D654-49A5-8B6E-14B98A38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82DE-5D16-45CE-974A-B66241C3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3416C2B6-410F-43E6-8BAF-C628A376CD09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3 - 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IL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the AIL is moved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succes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su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buf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 locked – pushbuf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inn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pi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lock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i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il was fl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restar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log write re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 log was for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BB49-722B-475F-8B1A-75DEE7C853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Quota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_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 m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quot_d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misses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h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in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qwant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ke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haked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ct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nactive da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5146-C049-4821-8EE1-858418E9C3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sta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misc/xfsstats.pl -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4C59-FFAC-43D1-8763-E2D319D3A3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D2D6-1A2A-4536-8590-F54E8E73779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nito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Dave Wright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0846-7FA5-4994-B5DF-5C132E848F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tch grep inode /proc/slab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ar –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ODO: Need to 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abtop -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 the sl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36E7-86AE-4309-BFE0-7D37BC36FE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Inod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emp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looks for inod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ou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 found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recycl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fails because inode was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miss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had to go to disk for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d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times missed but found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reclaim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recyled the inode’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rch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changed inod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lush_cou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s are being flu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c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s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inod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not able to in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F317-8765-46BD-A316-A757C99961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Directory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 name directory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cre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re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tden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den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5E98-D43F-48EF-BE41-8D850B9777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File Attribut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g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” operation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s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se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remove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lis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lis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BCD5-E2BB-4EC2-8B3D-98A0FCEA1C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llocation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llocation btree lookup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eee.compar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compares in alloc btre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ins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insert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del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delete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67BF-2902-4BB5-AD4E-8B9E173F79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Block Map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read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write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un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add_exli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insertions fo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del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look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cmp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look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btree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comp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ins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in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del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109F-8F6E-47D0-B16F-94C6269B7D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Journaling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ransactions waiting to be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a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sync transaction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emp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that did not do an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wr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uffer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b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locks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noiclo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entry attempt during memory fl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fs_log_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_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s_log_force_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38A4-7060-4B0A-8DB5-3F7549355B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5:40Z</dcterms:modified>
  <cp:revision>343</cp:revision>
  <dc:subject/>
  <dc:title>Possible CXFS Administration and Monitoring Interfaces</dc:title>
</cp:coreProperties>
</file>