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C2B1-49A5-4F0C-91FF-4A5ADDBE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A825-BD3F-4C48-96B2-8C41DB83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1B03-AD82-47B8-9EEF-7B55849B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8E26-58F8-4D1B-BBEA-AEA54409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614A-A561-4E25-BEC5-01C76A53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E0EF-0D69-4FD5-87A9-53A2E7D2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44B3-EFCB-454E-B01F-C0120428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F9AA-6EAB-47BE-ABED-BC0ECB0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E4B4-195E-4B20-8C88-39047D9C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82CC-99AF-4780-A64C-D57F720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CEDA-2085-4664-AF3E-C52878CE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6815-D613-4909-985E-96DE6AD3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E7608E8F-8C60-4E1C-89D9-E286EB5D58B7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1 - Dump and Resto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sum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FF57-1A14-4850-8193-6D779EF2E9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Query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A138-079F-4750-A535-FCE3AF445D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7333-5531-407C-B5E6-F5DE719417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8D6D-A9E6-47F0-B9DD-3AA40A326F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store from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5735-B03C-476C-98E9-2AD993BF7D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- Interac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D3C3-E799-4992-AA97-43CA2DF27A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Cumula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A77C-06F5-4855-B37D-C221966CC9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these still app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xfsdump/xfsrestore does not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pe devices using multiple -f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dumpoption-z (prune large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relatedoptionsof-a and 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xfsdump/xfsrestore does, however, have the added capabilit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stricted use of the -b option for blocksize specification and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ing/restoring between Linux and IRIX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8588-DC4E-49AE-BB00-29665187C1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op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AC11-CC7B-43C2-A072-B8BF9752A9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1582-7473-479F-B319-A3F476FDC8A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ump and Resto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differences between xfsdump, xfs_copy and other backu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dump and xfsrestore to 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_copy to copy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0565-0A79-4C6F-AD8F-F5546BF788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vs Copy vs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dump understands all the extensions in an XFS filesystem, so all attributes will be backed up and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_copy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ditional backup applications may not backup all attributes, but they provide other management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still limited to 32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BAPI aware which means they work with DMAPI and will not back up files that are already achieved by a HSM. Otherwise they would pull files off tape to backup onto other t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4CBE-C4A0-4A51-ACBA-14EF400E8D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- Featur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ump and xfsrestore support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features including 64-bit inode numbers, file lengths, and h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r, directory, symbolic link, block and character special, FIFO, and socket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hard li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edia types (tape, 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affect the state of the filesystem being dumped (for example, access times are retain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restore detects and bypasses media errors and recovers rapidly after encountering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dump does not crossmount points, local or rem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for automated and incremental back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1D8C-4ABE-46B8-A679-B111D79762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Media Lay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BD57-6C57-4195-A0B0-6C729D3E23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344B-F400-4BE9-A5A0-8421698721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120C-84C4-4F89-86A8-66FD4E57C3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Backup to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928F-4F6A-423F-9C5F-39243F8918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Incremental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3BF2-3229-408C-B894-A2DF6D3E51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21Z</dcterms:modified>
  <cp:revision>340</cp:revision>
  <dc:subject/>
  <dc:title>Possible CXFS Administration and Monitoring Interfaces</dc:title>
</cp:coreProperties>
</file>