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10D6-841F-49DA-BF89-EB0F5617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elbourne.sgi.com/dmf_and_friends/internals/DMAP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A5D5-1BA0-4E50-99E2-44C5ADEF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0C8A-BFE6-4176-B223-3B82FB9D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BEAC-3375-46DE-A828-15D05947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D400-2E41-404B-812E-CA81D009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6E1C-A399-4595-8BD4-CD7E301D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85930-F825-4F00-B817-DF99C1CB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066E-EA61-42BA-B55D-D806FBE0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7877-69A0-45F0-A442-8EDE537D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DB9C-1927-4961-82EC-4A408037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4286-0863-4571-8AD3-00D9FEEE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6CE7-EC7C-4C23-A216-F8A4DCBA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71CF-4D30-4ED3-BF40-A138D5C4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D254E8F5-552D-4C29-AA2C-0C51C9046833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pengroup.org/pubs/catalog/c429.htm" TargetMode="External"/><Relationship Id="rId2" Type="http://schemas.openxmlformats.org/officeDocument/2006/relationships/hyperlink" Target="http://www.csu.edu.au/special/auugwww96/proceedings/alex/al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DMA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Filesystem Admi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be moun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unmou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unmount succeeded/fai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s run out of sp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de has been read from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85C6D-87E3-437B-8EDA-C296D20922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Namesp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/post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file or direc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/post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/postr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ame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/post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) 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link/postsym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sym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F884D-8C46-4CB8-8031-B38C63D647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re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writ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about to be truncated to the specified address (away from or towards zer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12DB-F72A-43CC-8AA1-6F4192925E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Meta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's attribute has chang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 has been destroy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reviously issued event is cancell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ilesystem object has been clo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FB8C-954A-4328-8C4A-18D75B8172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vents - Pseud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ev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ssage between cooperating DMAPI proce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4149-E781-499D-BF2A-AFE5561E6C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s and Disposi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uses sessions as the primary communication channels between DM application and the kernel component of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all DMAPI calls require a session arg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s and event lists allow DM application to exercise a fine contr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event delivery and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may direct different event types to different sessions and avoid session over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tions indicate which event types should be delivered to this s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M application creates a session by calling dm_open_session() and then may register event dispositions for this session by calling dm_set_disp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CFCD-B640-49C9-9664-089351DAF2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with Sess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sired events to be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eventlist_t 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rigger mount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t disposition of thos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ipient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27A2-C414-4CC7-A72F-88282411B58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disposition of events on a filesystem to a particula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turn_on_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a DMAPI attribute to return with destroy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23CC-E814-40C2-9384-C9CA123CBF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Managing Sessions - DMAPI function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new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estro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the specifi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A14D-3D48-4483-92DE-71CF23E6F9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cess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next available event mess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spond-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d to one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y FS of slow applicatio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user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a user pseudo-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nd_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message to indicat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move_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event to anothe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0F59-0F8D-430C-AB4D-EBE53B9606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g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lic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ramm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Data Management Interfaces Group consortium (DMIG), 1993-19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tandardized access to filesystems for Hierarchical Storage Managers (HSMs) and backup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in SLES is used by vendors other than just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B27A-5D56-48FF-9EB2-DB9F043370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/assume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outstanding tokens for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find_event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essage for a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event dispositions for all filesystems for a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C1322-8C0B-47AF-A748-737485211D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naged regions is the mechanism for an application to control file data access at a granularity level less than file size. It is an extent in the logical fi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generation fla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yte-granularity events for all accesses/modifications of a file's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apply to file ob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non-overlapping byte ranges in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ly detect reads, writes, trunc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, persistent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3C81-45DF-4D53-BA14-2D3915ADA1C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C3D2-8C56-4948-9F5C-76ED6F4FE8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change mtime or atime (ctime chang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: 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generate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A1A5-848D-4882-80BC-59A47F8F45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robe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rounded result of the area where a hole is to be punc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unch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hole in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ad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a file bypassing DMAPI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write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a file bypassing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ync_by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 a file's data to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file attribu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file time stamps, ownership, mode, length,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alloc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allocation info for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1B38-66D0-49CF-BCBC-C4DC4B782B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d per file as SGI_DMI_xxx extended attrib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across rebo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F stores in SGI_DMI_DMF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fid, fil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should be 512 bytes (-i size=5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0B7C-E2E7-4496-9CFB-3125F3315E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/replac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move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ll DMAPI attributes for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625F-491B-43D8-A02F-709DB4D988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canning Filesystems Quickl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init_attr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a bulk attribute location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bulk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bulk attributes for entire file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bulk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data management attributes for entire file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C481-CC1E-483D-9A81-F00DD1B9FA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 applications use the tokens to obtain access rights to file system objects to guarantee stability of th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session to control access/upd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atomic updates over many fun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 may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right allows read-only access (DM_RIGHT_SHA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lusive right allows modification to the object (DM_RIGHT_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-available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6E9E-6465-4C1B-BECD-6C3B83DAF02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leas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 all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set of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up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grade current right to exclus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own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grade current right to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in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quest_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 a specific access r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AF6E-484C-4A29-8391-9EAC6617AB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5176800"/>
            <a:ext cx="259740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218000">
            <a:off x="1668240" y="3478320"/>
            <a:ext cx="5265720" cy="1681200"/>
          </a:xfrm>
          <a:prstGeom prst="leftRightArrow">
            <a:avLst>
              <a:gd name="adj1" fmla="val 50000"/>
              <a:gd name="adj2" fmla="val 62352"/>
            </a:avLst>
          </a:prstGeom>
          <a:solidFill>
            <a:srgbClr val="c0b9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63480" y="2435400"/>
            <a:ext cx="839880" cy="1841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3581280" y="3317760"/>
            <a:ext cx="762120" cy="1814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8600" y="1219320"/>
            <a:ext cx="281664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Primary Storage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Online high-performance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2 to 1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current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832280"/>
            <a:ext cx="1954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30 day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181480"/>
            <a:ext cx="1752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12 month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351320"/>
            <a:ext cx="23637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632960" y="2805120"/>
            <a:ext cx="23619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48040" y="302112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3720" y="354636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84920" y="1371600"/>
            <a:ext cx="2457000" cy="14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Nearline Disk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High Capacity, Low cost, 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Lower performance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6 to 2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is years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00200" y="2895480"/>
            <a:ext cx="199368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Tape Library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Archive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hundreds to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ousands of hour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7515000" y="4641840"/>
            <a:ext cx="881280" cy="51912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934320" y="4003560"/>
            <a:ext cx="839520" cy="181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38360" y="2971800"/>
            <a:ext cx="5295960" cy="990720"/>
          </a:xfrm>
          <a:custGeom>
            <a:avLst/>
            <a:gdLst/>
            <a:ahLst/>
            <a:rect l="l" t="t" r="r" b="b"/>
            <a:pathLst>
              <a:path w="3240" h="576">
                <a:moveTo>
                  <a:pt x="3240" y="576"/>
                </a:moveTo>
                <a:lnTo>
                  <a:pt x="1880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85DD-23AE-4B02-9371-0FD42D1530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MAPI 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tions must be us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nable the DMAPI event callo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dsm and dmi options are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tpt=mount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mountpoint specified here will be included in the DMAPI mount event, and should be the path of the actual mountpoint that is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grep dmapi /etc/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/mnt/scratch1 xfs dmapi,mtpt=/mnt/scratch1,defaults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on /mnt/scratch1 type xfs (rw,dmapi,mtpt=/mnt/scratch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3C98-F0E5-4DC0-A554-7868AAF2E4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if there is no DMAPI module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ount -o logdev=/dev/sdb,dmapi,mtpt=/mnt/data /dev/sdd /mnt/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unt: wrong fs type, bad option, bad superblock on /dev/sd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sing codepage or other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 some cases useful info is found in syslog - 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esg | tail  or 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dmesg | tail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: unknown mount option [dmapi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eck that DMAPI is probed on boot and 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LES10 set DMAPI_PROBE to yes in /etc/sysconfig/sysc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ithout rebooting XFS with load dmapi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echo 1 &gt; /proc/sys/fs/xfs/probe_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lsmod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mapi              22936 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api                  39728  1 xfs_dmapi,[permanen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                   479796  4 xfs_dmapi,xfs_qu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D268-17B6-4E36-823C-62F7E4C1D5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DMAPI interfaces used by SGI’s HSM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of the bugs recently fixed in DMAPI did not impact SGI’s H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me DMAPI interfaces are not implemented by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intaining 2.4/2.6 compatible code makes it difficul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lan is to remove 2.4 support from this code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requires two kernel changes that are not in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en_ex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A277-ABE8-4E67-B5CF-EEA8EF7B4A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Libra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.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HANGES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READ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AF6A-EBD9-47F9-B26F-8B2E24DEABD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Development Pack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devel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include/xfs/dmapi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man/man3/dmapi.3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3DE9-6236-4BED-AD22-6EF924C08F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Kernel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rpm -qpl kernel-default-2.6.16.21-0.8.ia64.rpm | grep 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/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lesystem in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/xfs_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7161-2524-4462-94A5-994BCE661B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Tri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95CF-33FA-4690-B255-34B3AE4442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3EC4-A0C8-4451-9D7B-5658455FBC22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conomic Benefi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4200" y="5452920"/>
            <a:ext cx="5459400" cy="366840"/>
          </a:xfrm>
          <a:prstGeom prst="rect">
            <a:avLst/>
          </a:pr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9920" y="4790520"/>
            <a:ext cx="124776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2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966080" y="3421080"/>
            <a:ext cx="444600" cy="1057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27840" y="3487680"/>
            <a:ext cx="10382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6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0200" y="3852720"/>
            <a:ext cx="6122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System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c/MB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/o DMF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DMF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4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8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8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37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br>
              <a:rPr sz="1800"/>
            </a:b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DMF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tal Investment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3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640"/>
            <a:ext cx="46418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Example Environment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2TB data less than 30 days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6TB data between 30 days and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30TB data over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7040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56200" y="1464120"/>
            <a:ext cx="17510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out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3800" y="1464120"/>
            <a:ext cx="1524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676840" y="191448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904160" y="193680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8001000" y="4664160"/>
            <a:ext cx="452520" cy="97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2962-0951-48CF-9E96-EF77B2538C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do HSMs need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accesses/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pt or reject such accesses and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ve user processes block until the change has been appro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ss a file without knowing a path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read and change the contents of a file without blo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HSM-specific information persistently with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an all files in a filesystem quick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when filesystems become 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39F9C-1F04-4A71-8C05-BAD5A3F7A2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Standard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Versions 2.1 and 2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Open Data Storage Management API (XDSM) - 2/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rigorous stand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70 function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40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 available free in HTML format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opengroup.org/pubs/catalog/c429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Miroshnichenko’s paper from AUUG 199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su.edu.au/special/auugwww96/proceedings/alex/al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A931-E8AB-4BB6-BEA6-AAD55052D5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file access without pathn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milar to NFS file hand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andle is an opaque persistent identifier which is unique pe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not change for the life of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s are represented as variable length byte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* and size_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istence of a valid handle does not guarantee existence of the object referenced b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nly way to guarantee the existence of the object referred to by a handle is to either obtain a right or hold on the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andle 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handle - (used only in mount reques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ndle - (fsid has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handle - (fsid hash/fid_t structur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9A14-5FAC-4EB3-BC11-0F6E24473A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path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fd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system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the filesystem handle from a file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c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handle comparis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is_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if a handle is val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h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h contents of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storage allocated to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a pathname from two hand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8523-A527-4008-9BBD-BD946BEBB6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Events and Toke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are messages from the kernel to a DMAPI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notification of accesses/changes to a file or file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synchronous event is generated, the user process is suspended in the kernel until a DMAPI application issues an explicit response to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oken is a reference to the kernel state associated with a synchronous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events are for notification purpos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indicate a completion (or failure) of certain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 not block user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ntain handles, directory nam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594E5-1729-43F3-A6A0-2CAB68F8E0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58Z</dcterms:modified>
  <cp:revision>335</cp:revision>
  <dc:subject/>
  <dc:title>Possible CXFS Administration and Monitoring Interfaces</dc:title>
</cp:coreProperties>
</file>