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ABCBA-45EE-44BD-9F53-E00F646D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ECB45-7175-4BBB-B8BC-531D58C4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1F0D-36B9-4225-9956-CFF1D81D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C8B28-E3B2-42AD-B0B4-D7EB10DF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D8FF-7D30-420B-85F7-9869C520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0DDAD-A3BE-4936-A3C6-40EFE131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6E95-785A-4724-83CF-7C15AC62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6C2C4-1063-4973-9CF8-48086C40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BE57-EF52-4A14-8D61-A27C0BD0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245F7-BEE1-4E9C-86BF-D076EEA8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791E4-586D-49DB-88DC-83313E26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ECED9-23FA-4DE7-A2F5-ADD12A8E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508D13FF-F908-4970-BBB2-56AB39727D5A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6 - Volume Manag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and Volume Manag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ing XFS with md, device mapper, software r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C9BE7-8543-4B1A-9079-323C736145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BE023-D4BF-4EFF-A647-23CF7FD3E82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7:40Z</dcterms:modified>
  <cp:revision>331</cp:revision>
  <dc:subject/>
  <dc:title>Possible CXFS Administration and Monitoring Interfaces</dc:title>
</cp:coreProperties>
</file>