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46959"/>
        <c:axId val="13460781"/>
      </c:barChart>
      <c:catAx>
        <c:axId val="31946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60781"/>
        <c:crosses val="autoZero"/>
        <c:auto val="1"/>
        <c:lblAlgn val="ctr"/>
        <c:lblOffset val="100"/>
        <c:noMultiLvlLbl val="0"/>
      </c:catAx>
      <c:valAx>
        <c:axId val="13460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46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A13-CA17-4F17-A758-A4D5EDD2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F04-2E0B-44F8-87FD-8537B411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6FC-27A3-4096-A909-448D3E8D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404-A625-4C1F-A237-F2F3A037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7FE-2808-4B31-9175-2B0D62AF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4E6-0573-4032-8B63-0DEC0B6A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D72-3FF4-47DF-9816-C4BEEA1F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F69-1236-4483-B3C7-2C2275AA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BF5-8D64-420E-86E9-0DAB1297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D16-F836-4D58-8A82-CE624080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A6F-0015-43F0-A15A-73CAB79C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5A3-7F9B-407A-A0F1-8B89B950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9D55B-7FD5-4B90-A38D-7E015B4DD9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