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93632"/>
        <c:axId val="67650442"/>
      </c:barChart>
      <c:catAx>
        <c:axId val="98293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50442"/>
        <c:crosses val="autoZero"/>
        <c:auto val="1"/>
        <c:lblAlgn val="ctr"/>
        <c:lblOffset val="100"/>
        <c:noMultiLvlLbl val="0"/>
      </c:catAx>
      <c:valAx>
        <c:axId val="676504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93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1022-EBC2-4FFE-9124-D95160F9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AB4-36D0-42F9-B697-804AA0BB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6B3E-7341-4F8F-B017-6D13DA8F3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5A7-1328-44B9-B03F-75BBFB43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B02B-AAA7-4FB4-B9FE-7C717E82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0B25-4B4A-4496-92B0-CFE98AF8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8044-51E9-4B8B-9699-64A707BE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876-41F8-4EF1-9462-F7E2FA28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489-7EA8-4F40-86BE-3047ED42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B35B-E1F0-43D5-8372-86A44420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B10A-92C8-41E4-9025-023CF3E6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6D43-0028-43AF-B551-B742F82A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25B68-19A7-4968-8690-02D8DA2F84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