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565850"/>
        <c:axId val="43890279"/>
      </c:barChart>
      <c:catAx>
        <c:axId val="935658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90279"/>
        <c:crosses val="autoZero"/>
        <c:auto val="1"/>
        <c:lblAlgn val="ctr"/>
        <c:lblOffset val="100"/>
        <c:noMultiLvlLbl val="0"/>
      </c:catAx>
      <c:valAx>
        <c:axId val="438902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658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ACD-48D0-4816-8F3D-0483EA3E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FC28-416B-4975-BFA4-3F6766B5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F270-3929-42D3-928E-B1A003F8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18B8-7F42-4A90-9B84-ACA919C2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1B3-0198-4870-A77C-5B547038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1A93-6090-4199-BADF-B7FF44AC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0870-4E62-4AE4-ACFE-795DF65B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E68A-495B-492F-8107-49A2FC98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E0E1-C37B-48C5-9F5C-CEE0381D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7D39-6756-4ADB-BC4F-03B46DD4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54AE-A068-4C25-83C6-F903BA0F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030D-940B-4BA8-A719-C512C791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7868F-7E19-463E-8DF7-F292B7E78D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