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56331"/>
        <c:axId val="8378857"/>
      </c:barChart>
      <c:catAx>
        <c:axId val="17856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857"/>
        <c:crosses val="autoZero"/>
        <c:auto val="1"/>
        <c:lblAlgn val="ctr"/>
        <c:lblOffset val="100"/>
        <c:noMultiLvlLbl val="0"/>
      </c:catAx>
      <c:valAx>
        <c:axId val="8378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6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5FC-D174-4EA5-BD23-55C63723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66C-7657-4183-AEA1-76E5E5F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0F1-0FEE-46AB-AEEF-2A25F2E4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9EB-AEF8-4209-BE76-2815A584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AB1-9A04-425D-918D-936BDA6C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DB9-B004-4189-9BE8-4990BBD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A17-E931-4698-885B-14FDE9D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6DB-4258-4CEB-80E6-2454CD0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0E7-E35E-48FE-88E9-D233DD7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3EA-AA02-41D1-B84C-A92ED2D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BF2-A228-4633-80F4-F63F7C9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F5C-D7ED-4816-B501-9316AC0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16D4D-5C15-4A16-8840-58C648207F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