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86973"/>
        <c:axId val="15102207"/>
      </c:barChart>
      <c:catAx>
        <c:axId val="31786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2207"/>
        <c:crosses val="autoZero"/>
        <c:auto val="1"/>
        <c:lblAlgn val="ctr"/>
        <c:lblOffset val="100"/>
        <c:noMultiLvlLbl val="0"/>
      </c:catAx>
      <c:valAx>
        <c:axId val="15102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6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C1C-161C-4199-AAC2-67B80FD5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06D-17D2-460F-9C67-AB4035A2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475-BCEA-44FA-9386-539A32D1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0EB-8860-44AB-B4F0-51025DE9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CC1-2FBF-4A98-91FF-9EFC7608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5C0-BEC8-47C7-8E04-50CFA2DB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46A-EB0F-4B27-9F07-38A136E5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5FD-2C46-4CEA-81F7-9F02C6CD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780-4C83-4322-8FC7-DC6E6DD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E86-1A88-480D-A76F-E9FD476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AD8-56FB-4098-BE2C-4287DE5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F90-31E8-40A4-91CD-1F00C52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4CE72-57C7-4F12-84AA-CA8AD76B2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