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12773"/>
        <c:axId val="24121308"/>
      </c:barChart>
      <c:catAx>
        <c:axId val="17212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21308"/>
        <c:crosses val="autoZero"/>
        <c:auto val="1"/>
        <c:lblAlgn val="ctr"/>
        <c:lblOffset val="100"/>
        <c:noMultiLvlLbl val="0"/>
      </c:catAx>
      <c:valAx>
        <c:axId val="24121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2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3A5-B6DD-45B9-9ECB-9AE3980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095-4A60-4696-A981-A7634DDA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A3A-BFC2-479E-84A8-427D2FA9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C57-AEEF-488C-AC91-FFD72733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8CF-3EF0-4F45-9E3D-D30CA7B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2A5-62CC-45B6-8BC1-005E572C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BF6-F37C-473A-9FC3-7815A84D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5B1-0DDA-4187-AA2A-F113A73D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B1D-143D-4151-A5B6-EF1D166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E9F-9447-4394-BEFD-5B0BFE4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5D3-9376-452A-8094-085C4DC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0A4-A519-427A-B6DD-B4A5F64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367AF-0693-4A55-A96D-3A789C81F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