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849185"/>
        <c:axId val="57575450"/>
      </c:barChart>
      <c:catAx>
        <c:axId val="11849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75450"/>
        <c:crosses val="autoZero"/>
        <c:auto val="1"/>
        <c:lblAlgn val="ctr"/>
        <c:lblOffset val="100"/>
        <c:noMultiLvlLbl val="0"/>
      </c:catAx>
      <c:valAx>
        <c:axId val="57575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49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164-4ED3-447A-81D7-217991F8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828-01E9-494B-821C-CE0BCCEB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82C-D534-45D6-8F6D-E4BAE6B5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9AC-A07B-47FE-934E-1ACB81D9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4AB-C2FE-46A7-AD46-BE253E98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075-EE61-478A-898E-BD10BC2B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08E-A826-4AAB-BB9C-CBA4ABC8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AB8-ADE8-456D-A09B-F52615D2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A0D-9140-46A6-9F68-5BB466D8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9E7-721F-40DA-A9B4-D2CEAFDB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EF9-1E93-4FEC-98F6-C3ABB28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98D-1126-4955-8BF2-2C8175C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9F713-42CB-481F-9156-2D739419C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