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932886"/>
        <c:axId val="80283248"/>
      </c:barChart>
      <c:catAx>
        <c:axId val="479328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83248"/>
        <c:crosses val="autoZero"/>
        <c:auto val="1"/>
        <c:lblAlgn val="ctr"/>
        <c:lblOffset val="100"/>
        <c:noMultiLvlLbl val="0"/>
      </c:catAx>
      <c:valAx>
        <c:axId val="802832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328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3B0D-B027-4CE3-AF88-90ED091ED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7A89-5688-4458-99DC-52A66D7E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F5A9-725D-41E8-BEC3-0A1AD6AF2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D92B-E531-4301-BAE8-607FB9A57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76FE-D311-417E-9149-906458E7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CA5A-E42A-4E43-AF16-98D1882F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CD18-44A8-4147-8747-AE374748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DFE2-2AD6-43D2-9694-8CA19A91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4195-272E-4AF4-9AB9-CE376DCB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E77D-D066-44F7-B095-B3652A5A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7E6C-A345-4545-9847-3FD97479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60D4-5D8E-4E47-809A-9E6B916F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06C08-6C40-4ADD-B177-DC85C286DD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