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90458"/>
        <c:axId val="53461205"/>
      </c:barChart>
      <c:catAx>
        <c:axId val="36090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1205"/>
        <c:crosses val="autoZero"/>
        <c:auto val="1"/>
        <c:lblAlgn val="ctr"/>
        <c:lblOffset val="100"/>
        <c:noMultiLvlLbl val="0"/>
      </c:catAx>
      <c:valAx>
        <c:axId val="53461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90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7F9-FDB6-4EC3-A117-754F0734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43A-D196-4166-8683-8BECD32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2D9-4782-40E1-A480-6FC43250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281-4B68-46BE-81FF-272A3A28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3A4-7463-43AC-B996-14034B16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1B5-078F-4C44-A724-205DFEC3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D5A-B2B1-44F9-AF65-1B8EFD7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6BF-9E14-4834-940F-0CA15BD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453-2D5B-4AFC-ABA8-FE62F60E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AD8-C924-4384-B7B2-B10CE02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101-9A7C-460D-A936-FB15416C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842-577B-43C6-9195-D4D8524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4E2C5-B4F3-472B-BE80-51F72AC02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